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81FA7D-2FE2-43D5-BF02-081D8070F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D7DE44-71BB-4D73-BB0B-0B8E013718A4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B58D75-D0C9-48F1-9580-77B6A326700B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316549-715E-48AD-B234-ECC55C743FF7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10AB6D-605D-421E-B131-1A4D7CC21F34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F75B-4BAC-40AB-9001-C20ACEC85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5317-545D-4B95-A059-01B80DAE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9759-D9D5-42D6-9EC6-DE93E6E5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A804-2C82-44BC-8BE0-39AD14996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B804-1E52-4035-925D-67B42166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AF84-7ADC-4B75-8D31-6A29CDAD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AE3A-51E5-4E5A-ADB9-51F23AEE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9DD6-C0AF-4CC6-8C94-6FCA3771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3177-8C1E-41C5-9D70-764D769C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3268-69A2-4EB3-9508-AFE83475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AD5D-CDA4-49B1-8706-C14B675E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CBB7-2D84-414D-800A-3BD9C48D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9EBE-44F2-4A01-AB4A-84414C60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70A6-19B1-4953-B403-0030DA27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98DC-133D-4CA4-B70D-FAC93D3F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C97E-BDA1-41A1-BD5C-B17F9621D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0041-04E5-4581-AD2C-D5DB5FAD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B7DE-4F59-4C14-BD83-3CAF6922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1785-4194-4A45-BC44-7F8ADA26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03EE-7D33-4FFE-9945-771BFF92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E33C-F67E-4961-8D1E-28C6BF5F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B3C5-7CBB-42C7-BBBA-F9997AD6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0691-5CB8-4948-9EAD-B40CFFB5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1546-B9CD-4A99-A8E1-688E7B09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0AC679-D5C8-4668-93EC-CE6B3CC993AF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924991-3EF6-4BB2-BAD9-290B235AB69A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I giudizi di livello</a:t>
            </a:r>
            <a:endParaRPr b="0" lang="it-IT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Segnaposto tabella 4"/>
          <p:cNvGraphicFramePr/>
          <p:nvPr/>
        </p:nvGraphicFramePr>
        <p:xfrm>
          <a:off x="457200" y="1600200"/>
          <a:ext cx="8229240" cy="3787920"/>
        </p:xfrm>
        <a:graphic>
          <a:graphicData uri="http://schemas.openxmlformats.org/drawingml/2006/table">
            <a:tbl>
              <a:tblPr/>
              <a:tblGrid>
                <a:gridCol w="1738440"/>
                <a:gridCol w="6490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3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A </a:t>
                      </a:r>
                      <a:r>
                        <a:rPr b="1" lang="it-IT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(avanza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it-IT" sz="18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L’alunno/a svolge compiti e risolve problemi complessi, mostrando padronanza nell’uso delle conoscenze e delle abilità; propone e sostiene le proprie opinioni e assume in modo responsabile decisioni consapevo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termedi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e risolve problemi in situazioni nuove, compie scelte consapevoli, mostrando di saper utilizzare le conoscenze e le abilità acquisi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ba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semplici anche in situazioni nuove, mostrando di possedere conoscenze e abilità fondamentali e di saper applicare basilari regole e procedure appre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D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izia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, se opportunamente guidato/a, svolge compiti semplici in situazioni no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170" name="Picture 5" descr="logo baobab"/>
          <p:cNvPicPr/>
          <p:nvPr/>
        </p:nvPicPr>
        <p:blipFill>
          <a:blip r:embed="rId1"/>
          <a:stretch/>
        </p:blipFill>
        <p:spPr>
          <a:xfrm>
            <a:off x="179280" y="189000"/>
            <a:ext cx="717120" cy="7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 baobab"/>
          <p:cNvPicPr/>
          <p:nvPr/>
        </p:nvPicPr>
        <p:blipFill>
          <a:blip r:embed="rId1"/>
          <a:stretch/>
        </p:blipFill>
        <p:spPr>
          <a:xfrm>
            <a:off x="0" y="0"/>
            <a:ext cx="914040" cy="1010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5"/>
          <p:cNvSpPr/>
          <p:nvPr/>
        </p:nvSpPr>
        <p:spPr>
          <a:xfrm>
            <a:off x="971640" y="0"/>
            <a:ext cx="734508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Noi de Il Baobab ricorriamo a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it-IT" sz="2800" spc="-1" strike="noStrike">
                <a:solidFill>
                  <a:srgbClr val="ffff00"/>
                </a:solidFill>
                <a:latin typeface="Arial"/>
              </a:rPr>
              <a:t>aree della competenza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C:\Users\Tiziano_\Documents\Cartella Lavoro\ASSOCIAZIONE\EDITORIA\GIUNTI\FORMAZIONE GIUNTI-CANTINI\INTERVENTO\NEW RADAR.jpg"/>
          <p:cNvPicPr/>
          <p:nvPr/>
        </p:nvPicPr>
        <p:blipFill>
          <a:blip r:embed="rId2"/>
          <a:stretch/>
        </p:blipFill>
        <p:spPr>
          <a:xfrm>
            <a:off x="1475640" y="884160"/>
            <a:ext cx="60645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asellaDiTesto 5"/>
          <p:cNvSpPr/>
          <p:nvPr/>
        </p:nvSpPr>
        <p:spPr>
          <a:xfrm>
            <a:off x="452520" y="47664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Segnaposto tabella 4"/>
          <p:cNvGraphicFramePr/>
          <p:nvPr/>
        </p:nvGraphicFramePr>
        <p:xfrm>
          <a:off x="821880" y="64080"/>
          <a:ext cx="8229240" cy="67568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Adotta 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Mette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Argomenta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Sa assumere 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Ha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Sa operare 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Sa comprendere 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Sa argomentare 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Dispone di conoscenze consolidate che sa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Dispone di conoscenze consolidate che sa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Propone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Attua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Sa esprimere 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Sa elaborare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Impara autonomamente cose che non gl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E’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76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sellaDiTesto 7"/>
          <p:cNvSpPr/>
          <p:nvPr/>
        </p:nvSpPr>
        <p:spPr>
          <a:xfrm>
            <a:off x="469440" y="5157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1"/>
          <p:cNvSpPr/>
          <p:nvPr/>
        </p:nvSpPr>
        <p:spPr>
          <a:xfrm>
            <a:off x="12600" y="4680"/>
            <a:ext cx="359280" cy="682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Tiziano_\Documents\Cartella Lavoro\ASSOCIAZIONE\EDITORIA\GIUNTI\FORMAZIONE GIUNTI-CANTINI\INTERVENTO\NEW RADAR.jpg"/>
          <p:cNvPicPr/>
          <p:nvPr/>
        </p:nvPicPr>
        <p:blipFill>
          <a:blip r:embed="rId1"/>
          <a:stretch/>
        </p:blipFill>
        <p:spPr>
          <a:xfrm>
            <a:off x="3518280" y="573120"/>
            <a:ext cx="5544360" cy="5391360"/>
          </a:xfrm>
          <a:prstGeom prst="rect">
            <a:avLst/>
          </a:prstGeom>
          <a:ln w="0">
            <a:noFill/>
          </a:ln>
        </p:spPr>
      </p:pic>
      <p:sp>
        <p:nvSpPr>
          <p:cNvPr id="180" name="CasellaDiTesto 10"/>
          <p:cNvSpPr/>
          <p:nvPr/>
        </p:nvSpPr>
        <p:spPr>
          <a:xfrm>
            <a:off x="835560" y="573120"/>
            <a:ext cx="2656080" cy="5879520"/>
          </a:xfrm>
          <a:prstGeom prst="rect">
            <a:avLst/>
          </a:prstGeom>
          <a:solidFill>
            <a:schemeClr val="bg1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2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li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ator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no disp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 cerchio a delimit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ettori e spic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livelli individ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i per ciascun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senton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imitare un’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 compe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ccia circolare a sinistra 12"/>
          <p:cNvSpPr/>
          <p:nvPr/>
        </p:nvSpPr>
        <p:spPr>
          <a:xfrm rot="19525800">
            <a:off x="3695760" y="63360"/>
            <a:ext cx="1199880" cy="2614320"/>
          </a:xfrm>
          <a:prstGeom prst="curvedLeftArrow">
            <a:avLst>
              <a:gd name="adj1" fmla="val 25000"/>
              <a:gd name="adj2" fmla="val 50000"/>
              <a:gd name="adj3" fmla="val 32055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Users\Tiziano_\Documents\Cartella Lavoro\ASSOCIAZIONE\EDITORIA\GIUNTI\FORMAZIONE GIUNTI-CANTINI\INTERVENTO\img142.jpg"/>
          <p:cNvPicPr/>
          <p:nvPr/>
        </p:nvPicPr>
        <p:blipFill>
          <a:blip r:embed="rId4"/>
          <a:stretch/>
        </p:blipFill>
        <p:spPr>
          <a:xfrm>
            <a:off x="3492000" y="573120"/>
            <a:ext cx="5651640" cy="5530320"/>
          </a:xfrm>
          <a:prstGeom prst="rect">
            <a:avLst/>
          </a:prstGeom>
          <a:ln w="0">
            <a:noFill/>
          </a:ln>
        </p:spPr>
      </p:pic>
      <p:sp>
        <p:nvSpPr>
          <p:cNvPr id="183" name="Freccia circolare in su 13"/>
          <p:cNvSpPr/>
          <p:nvPr/>
        </p:nvSpPr>
        <p:spPr>
          <a:xfrm rot="20116200">
            <a:off x="3185280" y="4957920"/>
            <a:ext cx="4150800" cy="151020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 baobab"/>
          <p:cNvPicPr/>
          <p:nvPr/>
        </p:nvPicPr>
        <p:blipFill>
          <a:blip r:embed="rId5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Segnaposto tabella 4"/>
          <p:cNvGraphicFramePr/>
          <p:nvPr/>
        </p:nvGraphicFramePr>
        <p:xfrm>
          <a:off x="821880" y="64080"/>
          <a:ext cx="8229240" cy="66380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otto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t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rgomen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ssu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oper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comprend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rgoment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pong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tu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spri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laborare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par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autonomamente cose che non m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n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86" name="CasellaDiTesto 5"/>
          <p:cNvSpPr/>
          <p:nvPr/>
        </p:nvSpPr>
        <p:spPr>
          <a:xfrm>
            <a:off x="467640" y="58860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sellaDiTesto 7"/>
          <p:cNvSpPr/>
          <p:nvPr/>
        </p:nvSpPr>
        <p:spPr>
          <a:xfrm>
            <a:off x="469440" y="5301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1"/>
          <p:cNvSpPr/>
          <p:nvPr/>
        </p:nvSpPr>
        <p:spPr>
          <a:xfrm>
            <a:off x="18360" y="-4320"/>
            <a:ext cx="359280" cy="69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Segnaposto tabella 4"/>
          <p:cNvGraphicFramePr/>
          <p:nvPr/>
        </p:nvGraphicFramePr>
        <p:xfrm>
          <a:off x="831960" y="2880"/>
          <a:ext cx="8219520" cy="6793560"/>
        </p:xfrm>
        <a:graphic>
          <a:graphicData uri="http://schemas.openxmlformats.org/drawingml/2006/table">
            <a:tbl>
              <a:tblPr/>
              <a:tblGrid>
                <a:gridCol w="2660760"/>
                <a:gridCol w="4458960"/>
                <a:gridCol w="1099440"/>
              </a:tblGrid>
              <a:tr h="500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4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–  So cosa fare e come stare in classe, nel gruppo, con i compagni ,…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–  Cerco di trovare dei modi per imparare più facilmen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–  So dire il perché delle mie idee e delle mie scel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–  So assumere un un incarico o un compito e fare tutto ciò che serv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–  So organizzarmi anche da sol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–  So collaborare con i miei compagn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 –  Sono capace di cercare informazioni sui libri, sui giornali, in rete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 chiedendo agli altr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–  So usare tabelle e grafici per capire… e per spiegare quello che ho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pit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– Sono capace di  fare delle ipotesi per spiegare fatti o fenomen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– Uso tutto quello che so per spiegare le cose che avvengono e 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ultati delle mie azioni (nello spazio e nel tempo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– Propongo dei modi per risolvere problemi (progett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 – So come fare per provare a risolvere problemi (attu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– So raccontare ad altri quello che m’interessa, ma in modi divers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escrivo i fatti, li spiego con disegni, cartelloni, mappe, favole,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ccole recite) a seconda di chi mi ascolta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– So raccontare e spiegare anche usando il computer e/o la LIM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–Imparo da solo delle cose che non mi sono state spiega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 – Sono curioso e voglio scoprire i perché delle cos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92" name="CasellaDiTesto 5"/>
          <p:cNvSpPr/>
          <p:nvPr/>
        </p:nvSpPr>
        <p:spPr>
          <a:xfrm>
            <a:off x="443880" y="543240"/>
            <a:ext cx="38772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sellaDiTesto 7"/>
          <p:cNvSpPr/>
          <p:nvPr/>
        </p:nvSpPr>
        <p:spPr>
          <a:xfrm>
            <a:off x="443880" y="5301360"/>
            <a:ext cx="38772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1"/>
          <p:cNvSpPr/>
          <p:nvPr/>
        </p:nvSpPr>
        <p:spPr>
          <a:xfrm>
            <a:off x="0" y="0"/>
            <a:ext cx="452160" cy="725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4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8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  <Words>1016</Words>
  <Paragraphs>3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16:46:28Z</dcterms:created>
  <dc:creator>Daniele</dc:creator>
  <dc:description/>
  <dc:language>en-US</dc:language>
  <cp:lastModifiedBy>ANDREA</cp:lastModifiedBy>
  <cp:lastPrinted>1601-01-01T00:00:00Z</cp:lastPrinted>
  <dcterms:modified xsi:type="dcterms:W3CDTF">2015-04-15T13:23:22Z</dcterms:modified>
  <cp:revision>30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5</vt:r8>
  </property>
  <property fmtid="{D5CDD505-2E9C-101B-9397-08002B2CF9AE}" pid="5" name="Version">
    <vt:r8>7</vt:r8>
  </property>
</Properties>
</file>