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902188-5437-4857-A31E-8324D190B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926BE48-1C02-4CC9-B05A-FB3582B50568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1ACD19F-442D-448D-8613-C49F1E9D4B1A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A557D3A-7FDB-422D-93A6-D5C5C9B55B32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30F8C0B-EBC8-4734-9A22-1FF679E84C99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A88F-A453-452D-924D-D1B6AB186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FA57-2A63-4C60-9F0D-77872934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D2AA-3610-4789-88FF-09E57C714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C584-589C-4843-9352-8676279D7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521F-A06C-45DF-A1F2-75D97B3E9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AC8C-98A0-43BC-89DF-97F1715F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01A6-85C4-4CB0-A2E8-7C9FDA90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ED30-E8F2-4FFC-8012-A139691E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A333-1BC5-47FD-862A-80B2A49A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F79D-5FA0-4B87-AC16-C010941B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D8E1-7930-4448-85C5-310B9688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2336-ADC0-45E3-9B85-02A54B22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F9BB-41B0-4DD8-A858-FEA9CA41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3B9D-0282-4FCE-B286-195F101B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1651-1502-42D2-9BF3-F8A8A0CC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445BC-A894-4F19-B0C4-2C0420597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5883-01D3-40BC-8444-D32982250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CC12-2D64-4FF7-BEF8-35595474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C775-729A-42D5-9D85-CFA05ED3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99BB-D87D-4CE1-A3FC-3F3DEAB3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6E1D-8CBF-4469-8BD7-FEA49F0B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9705-3307-418E-94FE-5D3868C0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F410-91A5-466C-A90C-AF5B186F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B8AA-7ED7-4173-AC83-AC8D539F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913C338-CB18-4BBD-8A85-A31C2CE3D7D8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C1C8243-ADC6-4AF4-BE99-393F596222A4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5400" spc="-1" strike="noStrike">
                <a:solidFill>
                  <a:srgbClr val="ff0000"/>
                </a:solidFill>
                <a:latin typeface="Arial"/>
              </a:rPr>
              <a:t>I giudizi di livello</a:t>
            </a:r>
            <a:endParaRPr b="0" lang="it-IT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Segnaposto tabella 4"/>
          <p:cNvGraphicFramePr/>
          <p:nvPr/>
        </p:nvGraphicFramePr>
        <p:xfrm>
          <a:off x="457200" y="1600200"/>
          <a:ext cx="8229240" cy="3787920"/>
        </p:xfrm>
        <a:graphic>
          <a:graphicData uri="http://schemas.openxmlformats.org/drawingml/2006/table">
            <a:tbl>
              <a:tblPr/>
              <a:tblGrid>
                <a:gridCol w="1738440"/>
                <a:gridCol w="64908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it-IT" sz="3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A </a:t>
                      </a:r>
                      <a:r>
                        <a:rPr b="1" lang="it-IT" sz="1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(avanza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1" lang="it-IT" sz="18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L’alunno/a svolge compiti e risolve problemi complessi, mostrando padronanza nell’uso delle conoscenze e delle abilità; propone e sostiene le proprie opinioni e assume in modo responsabile decisioni consapevol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termedi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e risolve problemi in situazioni nuove, compie scelte consapevoli, mostrando di saper utilizzare le conoscenze e le abilità acquisi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ba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semplici anche in situazioni nuove, mostrando di possedere conoscenze e abilità fondamentali e di saper applicare basilari regole e procedure appre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D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izia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, se opportunamente guidato/a, svolge compiti semplici in situazioni no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170" name="Picture 5" descr="logo baobab"/>
          <p:cNvPicPr/>
          <p:nvPr/>
        </p:nvPicPr>
        <p:blipFill>
          <a:blip r:embed="rId1"/>
          <a:stretch/>
        </p:blipFill>
        <p:spPr>
          <a:xfrm>
            <a:off x="179280" y="189000"/>
            <a:ext cx="717120" cy="79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logo baobab"/>
          <p:cNvPicPr/>
          <p:nvPr/>
        </p:nvPicPr>
        <p:blipFill>
          <a:blip r:embed="rId1"/>
          <a:stretch/>
        </p:blipFill>
        <p:spPr>
          <a:xfrm>
            <a:off x="0" y="0"/>
            <a:ext cx="914040" cy="1010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95"/>
          <p:cNvSpPr/>
          <p:nvPr/>
        </p:nvSpPr>
        <p:spPr>
          <a:xfrm>
            <a:off x="971640" y="0"/>
            <a:ext cx="7345080" cy="8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Noi de Il Baobab ricorriamo al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it-IT" sz="2800" spc="-1" strike="noStrike">
                <a:solidFill>
                  <a:srgbClr val="ffff00"/>
                </a:solidFill>
                <a:latin typeface="Arial"/>
              </a:rPr>
              <a:t>aree della competenza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" descr="C:\Users\Tiziano_\Documents\Cartella Lavoro\ASSOCIAZIONE\EDITORIA\GIUNTI\FORMAZIONE GIUNTI-CANTINI\INTERVENTO\NEW RADAR.jpg"/>
          <p:cNvPicPr/>
          <p:nvPr/>
        </p:nvPicPr>
        <p:blipFill>
          <a:blip r:embed="rId2"/>
          <a:stretch/>
        </p:blipFill>
        <p:spPr>
          <a:xfrm>
            <a:off x="1475640" y="884160"/>
            <a:ext cx="606456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CasellaDiTesto 5"/>
          <p:cNvSpPr/>
          <p:nvPr/>
        </p:nvSpPr>
        <p:spPr>
          <a:xfrm>
            <a:off x="452520" y="47664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Segnaposto tabella 4"/>
          <p:cNvGraphicFramePr/>
          <p:nvPr/>
        </p:nvGraphicFramePr>
        <p:xfrm>
          <a:off x="821880" y="64080"/>
          <a:ext cx="8229240" cy="67568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Adotta 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Mette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Argomenta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Sa assumere 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Ha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Sa operare 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Sa comprendere 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Sa argomentare 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Dispone di conoscenze consolidate che sa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Dispone di conoscenze consolidate che sa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Propone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Attua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Sa esprimere 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Sa elaborare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Impara autonomamente cose che non gl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E’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76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sellaDiTesto 7"/>
          <p:cNvSpPr/>
          <p:nvPr/>
        </p:nvSpPr>
        <p:spPr>
          <a:xfrm>
            <a:off x="469440" y="5157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asellaDiTesto 1"/>
          <p:cNvSpPr/>
          <p:nvPr/>
        </p:nvSpPr>
        <p:spPr>
          <a:xfrm>
            <a:off x="12600" y="4680"/>
            <a:ext cx="359280" cy="6825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C:\Users\Tiziano_\Documents\Cartella Lavoro\ASSOCIAZIONE\EDITORIA\GIUNTI\FORMAZIONE GIUNTI-CANTINI\INTERVENTO\NEW RADAR.jpg"/>
          <p:cNvPicPr/>
          <p:nvPr/>
        </p:nvPicPr>
        <p:blipFill>
          <a:blip r:embed="rId1"/>
          <a:stretch/>
        </p:blipFill>
        <p:spPr>
          <a:xfrm>
            <a:off x="3518280" y="573120"/>
            <a:ext cx="5544360" cy="5391360"/>
          </a:xfrm>
          <a:prstGeom prst="rect">
            <a:avLst/>
          </a:prstGeom>
          <a:ln w="0">
            <a:noFill/>
          </a:ln>
        </p:spPr>
      </p:pic>
      <p:sp>
        <p:nvSpPr>
          <p:cNvPr id="180" name="CasellaDiTesto 10"/>
          <p:cNvSpPr/>
          <p:nvPr/>
        </p:nvSpPr>
        <p:spPr>
          <a:xfrm>
            <a:off x="835560" y="573120"/>
            <a:ext cx="2656080" cy="5879520"/>
          </a:xfrm>
          <a:prstGeom prst="rect">
            <a:avLst/>
          </a:prstGeom>
          <a:solidFill>
            <a:schemeClr val="bg1">
              <a:lumMod val="40000"/>
              <a:lumOff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2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li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ator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ono disp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 cerchio a delimit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ettori e spic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3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 livelli individ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i per ciascun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sentono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elimitare un’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 compet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ccia circolare a sinistra 12"/>
          <p:cNvSpPr/>
          <p:nvPr/>
        </p:nvSpPr>
        <p:spPr>
          <a:xfrm rot="19525800">
            <a:off x="3695760" y="63360"/>
            <a:ext cx="1199880" cy="2614320"/>
          </a:xfrm>
          <a:prstGeom prst="curvedLeftArrow">
            <a:avLst>
              <a:gd name="adj1" fmla="val 25000"/>
              <a:gd name="adj2" fmla="val 50000"/>
              <a:gd name="adj3" fmla="val 32055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" descr="C:\Users\Tiziano_\Documents\Cartella Lavoro\ASSOCIAZIONE\EDITORIA\GIUNTI\FORMAZIONE GIUNTI-CANTINI\INTERVENTO\img142.jpg"/>
          <p:cNvPicPr/>
          <p:nvPr/>
        </p:nvPicPr>
        <p:blipFill>
          <a:blip r:embed="rId4"/>
          <a:stretch/>
        </p:blipFill>
        <p:spPr>
          <a:xfrm>
            <a:off x="3492000" y="573120"/>
            <a:ext cx="5651640" cy="5530320"/>
          </a:xfrm>
          <a:prstGeom prst="rect">
            <a:avLst/>
          </a:prstGeom>
          <a:ln w="0">
            <a:noFill/>
          </a:ln>
        </p:spPr>
      </p:pic>
      <p:sp>
        <p:nvSpPr>
          <p:cNvPr id="183" name="Freccia circolare in su 13"/>
          <p:cNvSpPr/>
          <p:nvPr/>
        </p:nvSpPr>
        <p:spPr>
          <a:xfrm rot="20116200">
            <a:off x="3185280" y="4957920"/>
            <a:ext cx="4150800" cy="151020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 baobab"/>
          <p:cNvPicPr/>
          <p:nvPr/>
        </p:nvPicPr>
        <p:blipFill>
          <a:blip r:embed="rId5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Segnaposto tabella 4"/>
          <p:cNvGraphicFramePr/>
          <p:nvPr/>
        </p:nvGraphicFramePr>
        <p:xfrm>
          <a:off x="821880" y="64080"/>
          <a:ext cx="8229240" cy="66380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dotto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et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rgomen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ssu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oper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comprend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rgoment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pong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ttu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spri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laborare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mpar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autonomamente cose che non m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n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86" name="CasellaDiTesto 5"/>
          <p:cNvSpPr/>
          <p:nvPr/>
        </p:nvSpPr>
        <p:spPr>
          <a:xfrm>
            <a:off x="467640" y="58860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asellaDiTesto 7"/>
          <p:cNvSpPr/>
          <p:nvPr/>
        </p:nvSpPr>
        <p:spPr>
          <a:xfrm>
            <a:off x="469440" y="5301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sellaDiTesto 1"/>
          <p:cNvSpPr/>
          <p:nvPr/>
        </p:nvSpPr>
        <p:spPr>
          <a:xfrm>
            <a:off x="18360" y="-4320"/>
            <a:ext cx="359280" cy="69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Segnaposto tabella 4"/>
          <p:cNvGraphicFramePr/>
          <p:nvPr/>
        </p:nvGraphicFramePr>
        <p:xfrm>
          <a:off x="831960" y="2880"/>
          <a:ext cx="8219520" cy="6793560"/>
        </p:xfrm>
        <a:graphic>
          <a:graphicData uri="http://schemas.openxmlformats.org/drawingml/2006/table">
            <a:tbl>
              <a:tblPr/>
              <a:tblGrid>
                <a:gridCol w="2660760"/>
                <a:gridCol w="4458960"/>
                <a:gridCol w="1099440"/>
              </a:tblGrid>
              <a:tr h="500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44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–  So cosa fare e come stare in classe, nel gruppo, con i compagni ,…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–  Cerco di trovare dei modi per imparare più facilmen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 –  So dire il perché delle mie idee e delle mie scel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–  So assumere un un incarico o un compito e fare tutto ciò che serv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–  So organizzarmi anche da sol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 –  So collaborare con i miei compagn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 –  Sono capace di cercare informazioni sui libri, sui giornali, in rete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 chiedendo agli altr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 –  So usare tabelle e grafici per capire… e per spiegare quello che ho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pit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– Sono capace di  fare delle ipotesi per spiegare fatti o fenomen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 – Uso tutto quello che so per spiegare le cose che avvengono e 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isultati delle mie azioni (nello spazio e nel tempo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 – Propongo dei modi per risolvere problemi (progett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 – So come fare per provare a risolvere problemi (attu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578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 – So raccontare ad altri quello che m’interessa, ma in modi divers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descrivo i fatti, li spiego con disegni, cartelloni, mappe, favole,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iccole recite) a seconda di chi mi ascolta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 – So raccontare e spiegare anche usando il computer e/o la LIM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 –Imparo da solo delle cose che non mi sono state spiega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 – Sono curioso e voglio scoprire i perché delle cos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92" name="CasellaDiTesto 5"/>
          <p:cNvSpPr/>
          <p:nvPr/>
        </p:nvSpPr>
        <p:spPr>
          <a:xfrm>
            <a:off x="443880" y="543240"/>
            <a:ext cx="38772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asellaDiTesto 7"/>
          <p:cNvSpPr/>
          <p:nvPr/>
        </p:nvSpPr>
        <p:spPr>
          <a:xfrm>
            <a:off x="443880" y="5301360"/>
            <a:ext cx="38772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asellaDiTesto 1"/>
          <p:cNvSpPr/>
          <p:nvPr/>
        </p:nvSpPr>
        <p:spPr>
          <a:xfrm>
            <a:off x="0" y="0"/>
            <a:ext cx="452160" cy="725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4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8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3</TotalTime>
  <Application>LibreOffice/7.4.7.2$Linux_X86_64 LibreOffice_project/40$Build-2</Application>
  <AppVersion>15.0000</AppVersion>
  <Words>1016</Words>
  <Paragraphs>34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1T16:46:28Z</dcterms:created>
  <dc:creator>Daniele</dc:creator>
  <dc:description/>
  <dc:language>en-US</dc:language>
  <cp:lastModifiedBy>ANDREA</cp:lastModifiedBy>
  <cp:lastPrinted>1601-01-01T00:00:00Z</cp:lastPrinted>
  <dcterms:modified xsi:type="dcterms:W3CDTF">2015-04-15T13:23:22Z</dcterms:modified>
  <cp:revision>30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Presentazione su schermo (4:3)</vt:lpwstr>
  </property>
  <property fmtid="{D5CDD505-2E9C-101B-9397-08002B2CF9AE}" pid="4" name="Slides">
    <vt:r8>5</vt:r8>
  </property>
  <property fmtid="{D5CDD505-2E9C-101B-9397-08002B2CF9AE}" pid="5" name="Version">
    <vt:r8>7</vt:r8>
  </property>
</Properties>
</file>