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0D3DBB1-ACF7-416D-9D69-0013CA3ED8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sldNum" idx="1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9B74AC6B-6294-413E-A06C-69DC7423098C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 type="sldNum" idx="1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816DC15-625D-42AC-9895-EC7E7D0FF453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sldNum" idx="1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C06B6B-15AD-48E9-9BF7-DCAC6A5BCBD8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000000"/>
                </a:solidFill>
                <a:latin typeface="Arial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6E47666-C867-41D4-A426-8285D612C157}" type="slidenum">
              <a:rPr b="0" lang="it-IT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4090C-6739-4263-BD14-9F8BD55AF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B75D-D7D1-4D2D-B82F-940B0584D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472A-E202-49D2-8059-8039056F0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BBC3-51A0-4B6E-BD8A-DAB02E03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37406-D937-49F1-ACB9-22BCAE7FF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24C6-A096-4D96-92C5-75441CAD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EA7A2-9B3F-4B22-ABDC-95D33273F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9A388-CB95-49CA-87FD-68DB7CABE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C774-DDEC-417A-8699-C6C3DF502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896A6-82D3-4973-9414-9E639B24E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065D2-BAC1-47DE-AAC0-F98FA0F1B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78CC0-86AD-4BAB-B39B-2247BBB9C7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76FE9E-A5C6-4ACF-8FAE-EB80F213F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71EE-09F9-4431-9B2D-0C3F71F3F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DEBDE-FDE7-4B55-A611-5341E29EE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C6FFB-84A3-42DD-906E-7239EA4D3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CC82C-914D-4E77-8F1C-640768962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F148-7190-465B-9746-1982382A3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31CF-7F28-40C0-9A8E-3AB4D1AB0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55442-8C45-4D95-9111-6D398C00B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746C-94B9-4CD0-8DF3-1A74798BD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97A8-4CF1-41C3-A89F-68471B747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B6F31-49C0-44DA-9DB0-F06CA5E97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240" cy="216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it-IT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3AC8-E891-46CB-90E3-9801705F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E0099D8-49D2-4FE6-AACB-73220604980D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3640" cy="6856200"/>
            <a:chOff x="0" y="0"/>
            <a:chExt cx="9143640" cy="685620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400" cy="5195520"/>
            </a:xfrm>
            <a:custGeom>
              <a:avLst/>
              <a:gdLst>
                <a:gd name="textAreaLeft" fmla="*/ 0 w 9140400"/>
                <a:gd name="textAreaRight" fmla="*/ 9140760 w 9140400"/>
                <a:gd name="textAreaTop" fmla="*/ 0 h 5195520"/>
                <a:gd name="textAreaBottom" fmla="*/ 5195880 h 5195520"/>
              </a:gdLst>
              <a:ahLst/>
              <a:rect l="textAreaLeft" t="textAreaTop" r="textAreaRight" b="textAreaBottom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3880" cy="5148000"/>
            </a:xfrm>
            <a:custGeom>
              <a:avLst/>
              <a:gdLst>
                <a:gd name="textAreaLeft" fmla="*/ 0 w 8903880"/>
                <a:gd name="textAreaRight" fmla="*/ 8904240 w 8903880"/>
                <a:gd name="textAreaTop" fmla="*/ 0 h 5148000"/>
                <a:gd name="textAreaBottom" fmla="*/ 5148360 h 5148000"/>
              </a:gdLst>
              <a:ahLst/>
              <a:rect l="textAreaLeft" t="textAreaTop" r="textAreaRight" b="textAreaBottom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09800" cy="302760"/>
            </a:xfrm>
            <a:custGeom>
              <a:avLst/>
              <a:gdLst>
                <a:gd name="textAreaLeft" fmla="*/ 0 w 6409800"/>
                <a:gd name="textAreaRight" fmla="*/ 6410160 w 6409800"/>
                <a:gd name="textAreaTop" fmla="*/ 0 h 302760"/>
                <a:gd name="textAreaBottom" fmla="*/ 303120 h 302760"/>
              </a:gdLst>
              <a:ahLst/>
              <a:rect l="textAreaLeft" t="textAreaTop" r="textAreaRight" b="textAreaBottom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0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240" cy="102960"/>
            </a:xfrm>
            <a:custGeom>
              <a:avLst/>
              <a:gdLst>
                <a:gd name="textAreaLeft" fmla="*/ 0 w 2730240"/>
                <a:gd name="textAreaRight" fmla="*/ 2730600 w 2730240"/>
                <a:gd name="textAreaTop" fmla="*/ 0 h 102960"/>
                <a:gd name="textAreaBottom" fmla="*/ 103320 h 102960"/>
              </a:gdLst>
              <a:ahLst/>
              <a:rect l="textAreaLeft" t="textAreaTop" r="textAreaRight" b="textAreaBottom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200" cy="522000"/>
            </a:xfrm>
            <a:custGeom>
              <a:avLst/>
              <a:gdLst>
                <a:gd name="textAreaLeft" fmla="*/ 0 w 7594200"/>
                <a:gd name="textAreaRight" fmla="*/ 7594560 w 7594200"/>
                <a:gd name="textAreaTop" fmla="*/ 0 h 522000"/>
                <a:gd name="textAreaBottom" fmla="*/ 522360 h 522000"/>
              </a:gdLst>
              <a:ahLst/>
              <a:rect l="textAreaLeft" t="textAreaTop" r="textAreaRight" b="textAreaBottom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5840" cy="159840"/>
            </a:xfrm>
            <a:custGeom>
              <a:avLst/>
              <a:gdLst>
                <a:gd name="textAreaLeft" fmla="*/ 0 w 1545840"/>
                <a:gd name="textAreaRight" fmla="*/ 1546200 w 1545840"/>
                <a:gd name="textAreaTop" fmla="*/ 0 h 159840"/>
                <a:gd name="textAreaBottom" fmla="*/ 160200 h 159840"/>
              </a:gdLst>
              <a:ahLst/>
              <a:rect l="textAreaLeft" t="textAreaTop" r="textAreaRight" b="textAreaBottom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160" cy="313920"/>
            </a:xfrm>
            <a:custGeom>
              <a:avLst/>
              <a:gdLst>
                <a:gd name="textAreaLeft" fmla="*/ 0 w 3395160"/>
                <a:gd name="textAreaRight" fmla="*/ 3395520 w 3395160"/>
                <a:gd name="textAreaTop" fmla="*/ 0 h 313920"/>
                <a:gd name="textAreaBottom" fmla="*/ 314280 h 313920"/>
              </a:gdLst>
              <a:ahLst/>
              <a:rect l="textAreaLeft" t="textAreaTop" r="textAreaRight" b="textAreaBottom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4880" cy="552240"/>
            </a:xfrm>
            <a:custGeom>
              <a:avLst/>
              <a:gdLst>
                <a:gd name="textAreaLeft" fmla="*/ 0 w 5744880"/>
                <a:gd name="textAreaRight" fmla="*/ 5745240 w 5744880"/>
                <a:gd name="textAreaTop" fmla="*/ 0 h 552240"/>
                <a:gd name="textAreaBottom" fmla="*/ 552600 h 552240"/>
              </a:gdLst>
              <a:ahLst/>
              <a:rect l="textAreaLeft" t="textAreaTop" r="textAreaRight" b="textAreaBottom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600" cy="43776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37760"/>
                <a:gd name="textAreaBottom" fmla="*/ 438120 h 437760"/>
              </a:gdLst>
              <a:ahLst/>
              <a:rect l="textAreaLeft" t="textAreaTop" r="textAreaRight" b="textAreaBottom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400" cy="599760"/>
            </a:xfrm>
            <a:custGeom>
              <a:avLst/>
              <a:gdLst>
                <a:gd name="textAreaLeft" fmla="*/ 0 w 2228400"/>
                <a:gd name="textAreaRight" fmla="*/ 2228760 w 2228400"/>
                <a:gd name="textAreaTop" fmla="*/ 0 h 599760"/>
                <a:gd name="textAreaBottom" fmla="*/ 600120 h 599760"/>
              </a:gdLst>
              <a:ahLst/>
              <a:rect l="textAreaLeft" t="textAreaTop" r="textAreaRight" b="textAreaBottom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240" cy="38052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380520"/>
                <a:gd name="textAreaBottom" fmla="*/ 380880 h 380520"/>
              </a:gdLst>
              <a:ahLst/>
              <a:rect l="textAreaLeft" t="textAreaTop" r="textAreaRight" b="textAreaBottom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4800" cy="2652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2652480"/>
                <a:gd name="textAreaBottom" fmla="*/ 2652840 h 2652480"/>
              </a:gdLst>
              <a:ahLst/>
              <a:rect l="textAreaLeft" t="textAreaTop" r="textAreaRight" b="textAreaBottom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240" cy="504360"/>
            </a:xfrm>
            <a:custGeom>
              <a:avLst/>
              <a:gdLst>
                <a:gd name="textAreaLeft" fmla="*/ 0 w 1155240"/>
                <a:gd name="textAreaRight" fmla="*/ 1155600 w 1155240"/>
                <a:gd name="textAreaTop" fmla="*/ 0 h 504360"/>
                <a:gd name="textAreaBottom" fmla="*/ 504720 h 504360"/>
              </a:gdLst>
              <a:ahLst/>
              <a:rect l="textAreaLeft" t="textAreaTop" r="textAreaRight" b="textAreaBottom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4800" cy="3471480"/>
            </a:xfrm>
            <a:custGeom>
              <a:avLst/>
              <a:gdLst>
                <a:gd name="textAreaLeft" fmla="*/ 0 w 7984800"/>
                <a:gd name="textAreaRight" fmla="*/ 7985160 w 7984800"/>
                <a:gd name="textAreaTop" fmla="*/ 0 h 3471480"/>
                <a:gd name="textAreaBottom" fmla="*/ 3471840 h 3471480"/>
              </a:gdLst>
              <a:ahLst/>
              <a:rect l="textAreaLeft" t="textAreaTop" r="textAreaRight" b="textAreaBottom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440" cy="4325400"/>
            </a:xfrm>
            <a:custGeom>
              <a:avLst/>
              <a:gdLst>
                <a:gd name="textAreaLeft" fmla="*/ 0 w 5014440"/>
                <a:gd name="textAreaRight" fmla="*/ 5014800 w 5014440"/>
                <a:gd name="textAreaTop" fmla="*/ 0 h 4325400"/>
                <a:gd name="textAreaBottom" fmla="*/ 4325760 h 4325400"/>
              </a:gdLst>
              <a:ahLst/>
              <a:rect l="textAreaLeft" t="textAreaTop" r="textAreaRight" b="textAreaBottom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280" cy="474480"/>
            </a:xfrm>
            <a:custGeom>
              <a:avLst/>
              <a:gdLst>
                <a:gd name="textAreaLeft" fmla="*/ 0 w 512280"/>
                <a:gd name="textAreaRight" fmla="*/ 512640 w 512280"/>
                <a:gd name="textAreaTop" fmla="*/ 0 h 474480"/>
                <a:gd name="textAreaBottom" fmla="*/ 474840 h 474480"/>
              </a:gdLst>
              <a:ahLst/>
              <a:rect l="textAreaLeft" t="textAreaTop" r="textAreaRight" b="textAreaBottom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5680" cy="531360"/>
            </a:xfrm>
            <a:custGeom>
              <a:avLst/>
              <a:gdLst>
                <a:gd name="textAreaLeft" fmla="*/ 0 w 445680"/>
                <a:gd name="textAreaRight" fmla="*/ 446040 w 445680"/>
                <a:gd name="textAreaTop" fmla="*/ 0 h 531360"/>
                <a:gd name="textAreaBottom" fmla="*/ 531720 h 531360"/>
              </a:gdLst>
              <a:ahLst/>
              <a:rect l="textAreaLeft" t="textAreaTop" r="textAreaRight" b="textAreaBottom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chemeClr val="bg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080" cy="4250880"/>
            </a:xfrm>
            <a:custGeom>
              <a:avLst/>
              <a:gdLst>
                <a:gd name="textAreaLeft" fmla="*/ 0 w 4951080"/>
                <a:gd name="textAreaRight" fmla="*/ 4951440 w 4951080"/>
                <a:gd name="textAreaTop" fmla="*/ 0 h 4250880"/>
                <a:gd name="textAreaBottom" fmla="*/ 4251240 h 4250880"/>
              </a:gdLst>
              <a:ahLst/>
              <a:rect l="textAreaLeft" t="textAreaTop" r="textAreaRight" b="textAreaBottom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6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160" cy="209160"/>
            </a:xfrm>
            <a:custGeom>
              <a:avLst/>
              <a:gdLst>
                <a:gd name="textAreaLeft" fmla="*/ 0 w 209160"/>
                <a:gd name="textAreaRight" fmla="*/ 209520 w 20916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600" cy="4022280"/>
            </a:xfrm>
            <a:custGeom>
              <a:avLst/>
              <a:gdLst>
                <a:gd name="textAreaLeft" fmla="*/ 0 w 3990600"/>
                <a:gd name="textAreaRight" fmla="*/ 3990960 w 3990600"/>
                <a:gd name="textAreaTop" fmla="*/ 0 h 4022280"/>
                <a:gd name="textAreaBottom" fmla="*/ 4022640 h 4022280"/>
              </a:gdLst>
              <a:ahLst/>
              <a:rect l="textAreaLeft" t="textAreaTop" r="textAreaRight" b="textAreaBottom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e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120" cy="3936600"/>
            </a:xfrm>
            <a:custGeom>
              <a:avLst/>
              <a:gdLst>
                <a:gd name="textAreaLeft" fmla="*/ 0 w 3489120"/>
                <a:gd name="textAreaRight" fmla="*/ 3489480 w 3489120"/>
                <a:gd name="textAreaTop" fmla="*/ 0 h 3936600"/>
                <a:gd name="textAreaBottom" fmla="*/ 3936960 h 3936600"/>
              </a:gdLst>
              <a:ahLst/>
              <a:rect l="textAreaLeft" t="textAreaTop" r="textAreaRight" b="textAreaBottom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2840" cy="151920"/>
            </a:xfrm>
            <a:custGeom>
              <a:avLst/>
              <a:gdLst>
                <a:gd name="textAreaLeft" fmla="*/ 0 w 132840"/>
                <a:gd name="textAreaRight" fmla="*/ 133200 w 132840"/>
                <a:gd name="textAreaTop" fmla="*/ 0 h 151920"/>
                <a:gd name="textAreaBottom" fmla="*/ 152280 h 151920"/>
              </a:gdLst>
              <a:ahLst/>
              <a:rect l="textAreaLeft" t="textAreaTop" r="textAreaRight" b="textAreaBottom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616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8640"/>
            </a:xfrm>
            <a:custGeom>
              <a:avLst/>
              <a:gdLst>
                <a:gd name="textAreaLeft" fmla="*/ 0 w 245880"/>
                <a:gd name="textAreaRight" fmla="*/ 246240 w 245880"/>
                <a:gd name="textAreaTop" fmla="*/ 0 h 818640"/>
                <a:gd name="textAreaBottom" fmla="*/ 819000 h 818640"/>
              </a:gdLst>
              <a:ahLst/>
              <a:rect l="textAreaLeft" t="textAreaTop" r="textAreaRight" b="textAreaBottom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360" cy="1653840"/>
            </a:xfrm>
            <a:custGeom>
              <a:avLst/>
              <a:gdLst>
                <a:gd name="textAreaLeft" fmla="*/ 0 w 909360"/>
                <a:gd name="textAreaRight" fmla="*/ 909720 w 909360"/>
                <a:gd name="textAreaTop" fmla="*/ 0 h 1653840"/>
                <a:gd name="textAreaBottom" fmla="*/ 1654200 h 1653840"/>
              </a:gdLst>
              <a:ahLst/>
              <a:rect l="textAreaLeft" t="textAreaTop" r="textAreaRight" b="textAreaBottom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080" cy="1263240"/>
            </a:xfrm>
            <a:custGeom>
              <a:avLst/>
              <a:gdLst>
                <a:gd name="textAreaLeft" fmla="*/ 0 w 541080"/>
                <a:gd name="textAreaRight" fmla="*/ 541440 w 541080"/>
                <a:gd name="textAreaTop" fmla="*/ 0 h 1263240"/>
                <a:gd name="textAreaBottom" fmla="*/ 1263600 h 1263240"/>
              </a:gdLst>
              <a:ahLst/>
              <a:rect l="textAreaLeft" t="textAreaTop" r="textAreaRight" b="textAreaBottom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200"/>
            </a:xfrm>
            <a:custGeom>
              <a:avLst/>
              <a:gdLst>
                <a:gd name="textAreaLeft" fmla="*/ 0 w 95040"/>
                <a:gd name="textAreaRight" fmla="*/ 95400 w 95040"/>
                <a:gd name="textAreaTop" fmla="*/ 0 h 493200"/>
                <a:gd name="textAreaBottom" fmla="*/ 493560 h 493200"/>
              </a:gdLst>
              <a:ahLst/>
              <a:rect l="textAreaLeft" t="textAreaTop" r="textAreaRight" b="textAreaBottom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040" cy="295884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958840"/>
                <a:gd name="textAreaBottom" fmla="*/ 2959200 h 2958840"/>
              </a:gdLst>
              <a:ahLst/>
              <a:rect l="textAreaLeft" t="textAreaTop" r="textAreaRight" b="textAreaBottom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000" cy="9000"/>
            </a:xfrm>
            <a:custGeom>
              <a:avLst/>
              <a:gdLst>
                <a:gd name="textAreaLeft" fmla="*/ 0 w 9000"/>
                <a:gd name="textAreaRight" fmla="*/ 9360 w 9000"/>
                <a:gd name="textAreaTop" fmla="*/ 0 h 9000"/>
                <a:gd name="textAreaBottom" fmla="*/ 9360 h 9000"/>
              </a:gdLst>
              <a:ahLst/>
              <a:rect l="textAreaLeft" t="textAreaTop" r="textAreaRight" b="textAreaBottom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040" cy="21222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2122200"/>
                <a:gd name="textAreaBottom" fmla="*/ 2122560 h 2122200"/>
              </a:gdLst>
              <a:ahLst/>
              <a:rect l="textAreaLeft" t="textAreaTop" r="textAreaRight" b="textAreaBottom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c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040" cy="657000"/>
            </a:xfrm>
            <a:custGeom>
              <a:avLst/>
              <a:gdLst>
                <a:gd name="textAreaLeft" fmla="*/ 0 w 9131040"/>
                <a:gd name="textAreaRight" fmla="*/ 9131400 w 9131040"/>
                <a:gd name="textAreaTop" fmla="*/ 0 h 657000"/>
                <a:gd name="textAreaBottom" fmla="*/ 657360 h 657000"/>
              </a:gdLst>
              <a:ahLst/>
              <a:rect l="textAreaLeft" t="textAreaTop" r="textAreaRight" b="textAreaBottom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080" cy="5043240"/>
            </a:xfrm>
            <a:custGeom>
              <a:avLst/>
              <a:gdLst>
                <a:gd name="textAreaLeft" fmla="*/ 0 w 7075080"/>
                <a:gd name="textAreaRight" fmla="*/ 7075440 w 7075080"/>
                <a:gd name="textAreaTop" fmla="*/ 0 h 5043240"/>
                <a:gd name="textAreaBottom" fmla="*/ 5043600 h 5043240"/>
              </a:gdLst>
              <a:ahLst/>
              <a:rect l="textAreaLeft" t="textAreaTop" r="textAreaRight" b="textAreaBottom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080" cy="4149360"/>
            </a:xfrm>
            <a:custGeom>
              <a:avLst/>
              <a:gdLst>
                <a:gd name="textAreaLeft" fmla="*/ 0 w 3862080"/>
                <a:gd name="textAreaRight" fmla="*/ 3862440 w 3862080"/>
                <a:gd name="textAreaTop" fmla="*/ 0 h 4149360"/>
                <a:gd name="textAreaBottom" fmla="*/ 4149720 h 4149360"/>
              </a:gdLst>
              <a:ahLst/>
              <a:rect l="textAreaLeft" t="textAreaTop" r="textAreaRight" b="textAreaBottom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3440" cy="3911400"/>
            </a:xfrm>
            <a:custGeom>
              <a:avLst/>
              <a:gdLst>
                <a:gd name="textAreaLeft" fmla="*/ 0 w 2863440"/>
                <a:gd name="textAreaRight" fmla="*/ 2863800 w 2863440"/>
                <a:gd name="textAreaTop" fmla="*/ 0 h 3911400"/>
                <a:gd name="textAreaBottom" fmla="*/ 3911760 h 3911400"/>
              </a:gdLst>
              <a:ahLst/>
              <a:rect l="textAreaLeft" t="textAreaTop" r="textAreaRight" b="textAreaBottom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200" cy="3292200"/>
            </a:xfrm>
            <a:custGeom>
              <a:avLst/>
              <a:gdLst>
                <a:gd name="textAreaLeft" fmla="*/ 0 w 1960200"/>
                <a:gd name="textAreaRight" fmla="*/ 1960560 w 1960200"/>
                <a:gd name="textAreaTop" fmla="*/ 0 h 3292200"/>
                <a:gd name="textAreaBottom" fmla="*/ 3292560 h 3292200"/>
              </a:gdLst>
              <a:ahLst/>
              <a:rect l="textAreaLeft" t="textAreaTop" r="textAreaRight" b="textAreaBottom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2280" cy="3072960"/>
            </a:xfrm>
            <a:custGeom>
              <a:avLst/>
              <a:gdLst>
                <a:gd name="textAreaLeft" fmla="*/ 0 w 1682280"/>
                <a:gd name="textAreaRight" fmla="*/ 1682640 w 1682280"/>
                <a:gd name="textAreaTop" fmla="*/ 0 h 3072960"/>
                <a:gd name="textAreaBottom" fmla="*/ 3073320 h 3072960"/>
              </a:gdLst>
              <a:ahLst/>
              <a:rect l="textAreaLeft" t="textAreaTop" r="textAreaRight" b="textAreaBottom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6880" cy="2360160"/>
            </a:xfrm>
            <a:custGeom>
              <a:avLst/>
              <a:gdLst>
                <a:gd name="textAreaLeft" fmla="*/ 0 w 1226880"/>
                <a:gd name="textAreaRight" fmla="*/ 1227240 w 1226880"/>
                <a:gd name="textAreaTop" fmla="*/ 0 h 2360160"/>
                <a:gd name="textAreaBottom" fmla="*/ 2360520 h 2360160"/>
              </a:gdLst>
              <a:ahLst/>
              <a:rect l="textAreaLeft" t="textAreaTop" r="textAreaRight" b="textAreaBottom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it-IT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400" cy="2949120"/>
              <a:chOff x="0" y="2590920"/>
              <a:chExt cx="9140400" cy="294912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5880" cy="2084040"/>
              </a:xfrm>
              <a:custGeom>
                <a:avLst/>
                <a:gdLst>
                  <a:gd name="textAreaLeft" fmla="*/ 0 w 5825880"/>
                  <a:gd name="textAreaRight" fmla="*/ 5826240 w 5825880"/>
                  <a:gd name="textAreaTop" fmla="*/ 0 h 2084040"/>
                  <a:gd name="textAreaBottom" fmla="*/ 2084400 h 2084040"/>
                </a:gdLst>
                <a:ahLst/>
                <a:rect l="textAreaLeft" t="textAreaTop" r="textAreaRight" b="textAreaBottom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320" cy="1103040"/>
              </a:xfrm>
              <a:custGeom>
                <a:avLst/>
                <a:gdLst>
                  <a:gd name="textAreaLeft" fmla="*/ 0 w 3352320"/>
                  <a:gd name="textAreaRight" fmla="*/ 3352680 w 335232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616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pPr>
                  <a:lnSpc>
                    <a:spcPct val="100000"/>
                  </a:lnSpc>
                </a:pPr>
                <a:endParaRPr b="0" lang="it-IT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Fare clic per modificare lo stile del titolo</a:t>
            </a:r>
            <a:endParaRPr b="0" lang="it-IT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720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12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3480"/>
            <a:ext cx="2133360" cy="4568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it-IT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7874E9C-ABFB-406A-A22D-FFBDFB1C91BF}" type="slidenum">
              <a:rPr b="0" lang="it-IT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it-IT" sz="5400" spc="-1" strike="noStrike">
                <a:solidFill>
                  <a:srgbClr val="ff0000"/>
                </a:solidFill>
                <a:latin typeface="Arial"/>
              </a:rPr>
              <a:t>I giudizi di livello</a:t>
            </a:r>
            <a:endParaRPr b="0" lang="it-IT" sz="5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Segnaposto tabella 4"/>
          <p:cNvGraphicFramePr/>
          <p:nvPr/>
        </p:nvGraphicFramePr>
        <p:xfrm>
          <a:off x="457200" y="1600200"/>
          <a:ext cx="8229240" cy="3787920"/>
        </p:xfrm>
        <a:graphic>
          <a:graphicData uri="http://schemas.openxmlformats.org/drawingml/2006/table">
            <a:tbl>
              <a:tblPr/>
              <a:tblGrid>
                <a:gridCol w="1738440"/>
                <a:gridCol w="6490800"/>
              </a:tblGrid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1" lang="it-IT" sz="3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A </a:t>
                      </a:r>
                      <a:r>
                        <a:rPr b="1" lang="it-IT" sz="14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(avanzat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1" lang="it-IT" sz="1800" spc="-1" strike="noStrike">
                          <a:solidFill>
                            <a:schemeClr val="lt1"/>
                          </a:solidFill>
                          <a:latin typeface="Times New Roman"/>
                          <a:ea typeface="Calibri"/>
                        </a:rPr>
                        <a:t>L’alunno/a svolge compiti e risolve problemi complessi, mostrando padronanza nell’uso delle conoscenze e delle abilità; propone e sostiene le proprie opinioni e assume in modo responsabile decisioni consapevoli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B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termedio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e risolve problemi in situazioni nuove, compie scelte consapevoli, mostrando di saper utilizzare le conoscenze e le abilità acquisi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bas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spcAft>
                          <a:spcPts val="1001"/>
                        </a:spcAf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 svolge compiti semplici anche in situazioni nuove, mostrando di possedere conoscenze e abilità fondamentali e di saper applicare basilari regole e procedure appres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36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D</a:t>
                      </a:r>
                      <a:r>
                        <a:rPr b="0" lang="it-IT" sz="14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(iniziale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Times New Roman"/>
                          <a:ea typeface="Calibri"/>
                        </a:rPr>
                        <a:t>L’alunno/a, se opportunamente guidato/a, svolge compiti semplici in situazioni note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</a:tbl>
          </a:graphicData>
        </a:graphic>
      </p:graphicFrame>
      <p:pic>
        <p:nvPicPr>
          <p:cNvPr id="170" name="Picture 5" descr="logo baobab"/>
          <p:cNvPicPr/>
          <p:nvPr/>
        </p:nvPicPr>
        <p:blipFill>
          <a:blip r:embed="rId1"/>
          <a:stretch/>
        </p:blipFill>
        <p:spPr>
          <a:xfrm>
            <a:off x="179280" y="189000"/>
            <a:ext cx="717120" cy="79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3" descr="logo baobab"/>
          <p:cNvPicPr/>
          <p:nvPr/>
        </p:nvPicPr>
        <p:blipFill>
          <a:blip r:embed="rId1"/>
          <a:stretch/>
        </p:blipFill>
        <p:spPr>
          <a:xfrm>
            <a:off x="0" y="0"/>
            <a:ext cx="914040" cy="10108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95"/>
          <p:cNvSpPr/>
          <p:nvPr/>
        </p:nvSpPr>
        <p:spPr>
          <a:xfrm>
            <a:off x="971640" y="0"/>
            <a:ext cx="7345080" cy="8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Noi de Il Baobab ricorriamo a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i="1" lang="it-IT" sz="2800" spc="-1" strike="noStrike">
                <a:solidFill>
                  <a:srgbClr val="ffff00"/>
                </a:solidFill>
                <a:latin typeface="Arial"/>
              </a:rPr>
              <a:t>aree della competenza</a:t>
            </a:r>
            <a:r>
              <a:rPr b="1" lang="it-IT" sz="2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2" descr="C:\Users\Tiziano_\Documents\Cartella Lavoro\ASSOCIAZIONE\EDITORIA\GIUNTI\FORMAZIONE GIUNTI-CANTINI\INTERVENTO\NEW RADAR.jpg"/>
          <p:cNvPicPr/>
          <p:nvPr/>
        </p:nvPicPr>
        <p:blipFill>
          <a:blip r:embed="rId2"/>
          <a:stretch/>
        </p:blipFill>
        <p:spPr>
          <a:xfrm>
            <a:off x="1475640" y="884160"/>
            <a:ext cx="606456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" dur="200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CasellaDiTesto 5"/>
          <p:cNvSpPr/>
          <p:nvPr/>
        </p:nvSpPr>
        <p:spPr>
          <a:xfrm>
            <a:off x="452520" y="47664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5" name="Segnaposto tabella 4"/>
          <p:cNvGraphicFramePr/>
          <p:nvPr/>
        </p:nvGraphicFramePr>
        <p:xfrm>
          <a:off x="821880" y="64080"/>
          <a:ext cx="8229240" cy="67568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Adotta 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Mette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Argomenta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Sa assumere 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Ha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Sa operare 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Sa comprendere 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Sa argomentare 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Dispone di conoscenze consolidate che sa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Dispone di conoscenze consolidate che sa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Propone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Attua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Sa esprimere 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Sa elaborare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Impara autonomamente cose che non gl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E’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76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CasellaDiTesto 7"/>
          <p:cNvSpPr/>
          <p:nvPr/>
        </p:nvSpPr>
        <p:spPr>
          <a:xfrm>
            <a:off x="469440" y="5157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CasellaDiTesto 1"/>
          <p:cNvSpPr/>
          <p:nvPr/>
        </p:nvSpPr>
        <p:spPr>
          <a:xfrm>
            <a:off x="12600" y="4680"/>
            <a:ext cx="359280" cy="6825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2" descr="C:\Users\Tiziano_\Documents\Cartella Lavoro\ASSOCIAZIONE\EDITORIA\GIUNTI\FORMAZIONE GIUNTI-CANTINI\INTERVENTO\NEW RADAR.jpg"/>
          <p:cNvPicPr/>
          <p:nvPr/>
        </p:nvPicPr>
        <p:blipFill>
          <a:blip r:embed="rId1"/>
          <a:stretch/>
        </p:blipFill>
        <p:spPr>
          <a:xfrm>
            <a:off x="3518280" y="573120"/>
            <a:ext cx="5544360" cy="5391360"/>
          </a:xfrm>
          <a:prstGeom prst="rect">
            <a:avLst/>
          </a:prstGeom>
          <a:ln w="0">
            <a:noFill/>
          </a:ln>
        </p:spPr>
      </p:pic>
      <p:sp>
        <p:nvSpPr>
          <p:cNvPr id="180" name="CasellaDiTesto 10"/>
          <p:cNvSpPr/>
          <p:nvPr/>
        </p:nvSpPr>
        <p:spPr>
          <a:xfrm>
            <a:off x="835560" y="573120"/>
            <a:ext cx="2656080" cy="5879520"/>
          </a:xfrm>
          <a:prstGeom prst="rect">
            <a:avLst/>
          </a:prstGeom>
          <a:solidFill>
            <a:schemeClr val="bg1">
              <a:lumMod val="40000"/>
              <a:lumOff val="60000"/>
            </a:scheme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2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li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atori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no dispost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n cerchio a delimita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ettori e spic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00"/>
              <a:buBlip>
                <a:blip r:embed="rId3"/>
              </a:buBlip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 livelli individu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i per ciascun </a:t>
            </a: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indice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nsentono d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elimitare un’are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i compet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Freccia circolare a sinistra 12"/>
          <p:cNvSpPr/>
          <p:nvPr/>
        </p:nvSpPr>
        <p:spPr>
          <a:xfrm rot="19525800">
            <a:off x="3695760" y="63360"/>
            <a:ext cx="1199880" cy="2614320"/>
          </a:xfrm>
          <a:prstGeom prst="curvedLeftArrow">
            <a:avLst>
              <a:gd name="adj1" fmla="val 25000"/>
              <a:gd name="adj2" fmla="val 50000"/>
              <a:gd name="adj3" fmla="val 32055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2" descr="C:\Users\Tiziano_\Documents\Cartella Lavoro\ASSOCIAZIONE\EDITORIA\GIUNTI\FORMAZIONE GIUNTI-CANTINI\INTERVENTO\img142.jpg"/>
          <p:cNvPicPr/>
          <p:nvPr/>
        </p:nvPicPr>
        <p:blipFill>
          <a:blip r:embed="rId4"/>
          <a:stretch/>
        </p:blipFill>
        <p:spPr>
          <a:xfrm>
            <a:off x="3492000" y="573120"/>
            <a:ext cx="5651640" cy="5530320"/>
          </a:xfrm>
          <a:prstGeom prst="rect">
            <a:avLst/>
          </a:prstGeom>
          <a:ln w="0">
            <a:noFill/>
          </a:ln>
        </p:spPr>
      </p:pic>
      <p:sp>
        <p:nvSpPr>
          <p:cNvPr id="183" name="Freccia circolare in su 13"/>
          <p:cNvSpPr/>
          <p:nvPr/>
        </p:nvSpPr>
        <p:spPr>
          <a:xfrm rot="20116200">
            <a:off x="3185280" y="4957920"/>
            <a:ext cx="4150800" cy="1510200"/>
          </a:xfrm>
          <a:prstGeom prst="curvedUpArrow">
            <a:avLst>
              <a:gd name="adj1" fmla="val 25000"/>
              <a:gd name="adj2" fmla="val 50000"/>
              <a:gd name="adj3" fmla="val 25000"/>
            </a:avLst>
          </a:prstGeom>
          <a:solidFill>
            <a:schemeClr val="accent1"/>
          </a:solidFill>
          <a:ln w="9525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endParaRPr b="0" lang="it-IT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5" descr="logo baobab"/>
          <p:cNvPicPr/>
          <p:nvPr/>
        </p:nvPicPr>
        <p:blipFill>
          <a:blip r:embed="rId5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5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3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3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3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4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8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3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Segnaposto tabella 4"/>
          <p:cNvGraphicFramePr/>
          <p:nvPr/>
        </p:nvGraphicFramePr>
        <p:xfrm>
          <a:off x="821880" y="64080"/>
          <a:ext cx="8229240" cy="6638040"/>
        </p:xfrm>
        <a:graphic>
          <a:graphicData uri="http://schemas.openxmlformats.org/drawingml/2006/table">
            <a:tbl>
              <a:tblPr/>
              <a:tblGrid>
                <a:gridCol w="2664000"/>
                <a:gridCol w="4464360"/>
                <a:gridCol w="1100520"/>
              </a:tblGrid>
              <a:tr h="514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dotto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tteggiamenti adeguati al contes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2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Met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atto strategie per favorire l’apprendiment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3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rgoment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in modo coerente scelte e opinion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4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ssu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e portare a termini ruoli di responsabilità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5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H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pirito di iniziativa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6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oper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 grup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7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comprend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testi scritti di vario tipo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8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argomenta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usando tabelle e graf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9 – 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sare per formulare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potes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0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Dispongo di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noscenze consolidate che so utilizzare per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terpretare fatti o fenomeni e giustificare risulta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1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ropong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strategie per risolvere problemi (progett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2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Attu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procedure operative per risolvere problemi (attuazione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3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sprimere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iò che ha appreso ricorrendo anche a registr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linguistici diversi in relazione a destinatari different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4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 elaborare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, argomentare e comunicare utilizzando strumenti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        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formatici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5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Impar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autonomamente cose che non mi sono state spiegate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7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16 – </a:t>
                      </a:r>
                      <a:r>
                        <a:rPr b="0" lang="it-IT" sz="11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Sono</a:t>
                      </a:r>
                      <a:r>
                        <a:rPr b="0" lang="it-IT" sz="11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 curioso e desideroso di scoprire i perché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86" name="CasellaDiTesto 5"/>
          <p:cNvSpPr/>
          <p:nvPr/>
        </p:nvSpPr>
        <p:spPr>
          <a:xfrm>
            <a:off x="467640" y="588600"/>
            <a:ext cx="37908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CasellaDiTesto 7"/>
          <p:cNvSpPr/>
          <p:nvPr/>
        </p:nvSpPr>
        <p:spPr>
          <a:xfrm>
            <a:off x="469440" y="5301360"/>
            <a:ext cx="36216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CasellaDiTesto 1"/>
          <p:cNvSpPr/>
          <p:nvPr/>
        </p:nvSpPr>
        <p:spPr>
          <a:xfrm>
            <a:off x="18360" y="-4320"/>
            <a:ext cx="359280" cy="69476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it-IT" sz="18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5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8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6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1" name="Segnaposto tabella 4"/>
          <p:cNvGraphicFramePr/>
          <p:nvPr/>
        </p:nvGraphicFramePr>
        <p:xfrm>
          <a:off x="831960" y="2880"/>
          <a:ext cx="8219520" cy="6793560"/>
        </p:xfrm>
        <a:graphic>
          <a:graphicData uri="http://schemas.openxmlformats.org/drawingml/2006/table">
            <a:tbl>
              <a:tblPr/>
              <a:tblGrid>
                <a:gridCol w="2660760"/>
                <a:gridCol w="4458960"/>
                <a:gridCol w="1099440"/>
              </a:tblGrid>
              <a:tr h="500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ATOR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INDIC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1" lang="it-IT" sz="1600" spc="-1" strike="noStrike">
                          <a:solidFill>
                            <a:schemeClr val="lt1"/>
                          </a:solidFill>
                          <a:latin typeface="Arial"/>
                        </a:rPr>
                        <a:t>LIVELL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38160">
                      <a:solidFill>
                        <a:srgbClr val="ffffff"/>
                      </a:solidFill>
                    </a:lnB>
                    <a:solidFill>
                      <a:schemeClr val="accent1"/>
                    </a:solidFill>
                  </a:tcPr>
                </a:tc>
              </a:tr>
              <a:tr h="4446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gire in modo autonomo e responsabi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 –  So cosa fare e come stare in classe, nel gruppo, con i compagni ,…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.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2 –  Cerco di trovare dei modi per imparare più facilmen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3 –  So dire il perché delle mie idee e delle mie scel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4 –  So assumere un un incarico o un compito e fare tutto ciò che serv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llaborare e partecip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5 –  So organizzarmi anche da sol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6 –  So collaborare con i miei compagn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cquisire e interpretare inform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7 –  Sono capace di cercare informazioni sui libri, sui giornali, in rete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o chiedendo agli altri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8 –  So usare tabelle e grafici per capire… e per spiegare quello che ho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capito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ndividuare collegamenti e relazion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9 – Sono capace di  fare delle ipotesi per spiegare fatti o fenomen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0 – Uso tutto quello che so per spiegare le cose che avvengono e 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risultati delle mie azioni (nello spazio e nel tempo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Progettare e risolvere problem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1 – Propongo dei modi per risolvere problemi (progett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2 – So come fare per provare a risolvere problemi (attuazione)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5781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Comunic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3 – So raccontare ad altri quello che m’interessa, ma in modi diversi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descrivo i fatti, li spiego con disegni, cartelloni, mappe, favole, 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       </a:t>
                      </a: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piccole recite) a seconda di chi mi ascolta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415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2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4 – So raccontare e spiegare anche usando il computer e/o la LIM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2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Imparare ad imparar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5 –Imparo da solo delle cose che non mi sono state spiegat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cdd3ff"/>
                    </a:solidFill>
                  </a:tcPr>
                </a:tc>
              </a:tr>
              <a:tr h="360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endParaRPr b="0" lang="it-IT" sz="1400" spc="-1" strike="noStrike">
                        <a:solidFill>
                          <a:schemeClr val="dk1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</a:pPr>
                      <a:r>
                        <a:rPr b="0" lang="it-IT" sz="105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16 – Sono curioso e voglio scoprire i perché delle cose</a:t>
                      </a:r>
                      <a:endParaRPr b="0" lang="en-US" sz="105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</a:tabLst>
                      </a:pPr>
                      <a:r>
                        <a:rPr b="0" lang="it-IT" sz="1800" spc="-1" strike="noStrike">
                          <a:solidFill>
                            <a:schemeClr val="dk1"/>
                          </a:solidFill>
                          <a:latin typeface="Arial"/>
                        </a:rPr>
                        <a:t>A-B-C-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2240">
                      <a:solidFill>
                        <a:srgbClr val="ffffff"/>
                      </a:solidFill>
                    </a:lnL>
                    <a:lnR w="12240">
                      <a:solidFill>
                        <a:srgbClr val="ffffff"/>
                      </a:solidFill>
                    </a:lnR>
                    <a:lnT w="12240">
                      <a:solidFill>
                        <a:srgbClr val="ffffff"/>
                      </a:solidFill>
                    </a:lnT>
                    <a:lnB w="12240">
                      <a:solidFill>
                        <a:srgbClr val="ffffff"/>
                      </a:solidFill>
                    </a:lnB>
                    <a:solidFill>
                      <a:srgbClr val="e8eaff"/>
                    </a:solidFill>
                  </a:tcPr>
                </a:tc>
              </a:tr>
            </a:tbl>
          </a:graphicData>
        </a:graphic>
      </p:graphicFrame>
      <p:sp>
        <p:nvSpPr>
          <p:cNvPr id="192" name="CasellaDiTesto 5"/>
          <p:cNvSpPr/>
          <p:nvPr/>
        </p:nvSpPr>
        <p:spPr>
          <a:xfrm>
            <a:off x="443880" y="543240"/>
            <a:ext cx="387720" cy="2251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asellaDiTesto 6"/>
          <p:cNvSpPr/>
          <p:nvPr/>
        </p:nvSpPr>
        <p:spPr>
          <a:xfrm>
            <a:off x="452520" y="2997000"/>
            <a:ext cx="379080" cy="2069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00ffff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CasellaDiTesto 7"/>
          <p:cNvSpPr/>
          <p:nvPr/>
        </p:nvSpPr>
        <p:spPr>
          <a:xfrm>
            <a:off x="443880" y="5301360"/>
            <a:ext cx="387720" cy="1460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it-IT" sz="1000" spc="-1" strike="noStrike">
                <a:solidFill>
                  <a:srgbClr val="ffff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CasellaDiTesto 1"/>
          <p:cNvSpPr/>
          <p:nvPr/>
        </p:nvSpPr>
        <p:spPr>
          <a:xfrm>
            <a:off x="0" y="0"/>
            <a:ext cx="452160" cy="7254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it-IT" sz="2000" spc="-1" strike="noStrike">
                <a:solidFill>
                  <a:srgbClr val="0000ff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" name="Picture 5" descr="logo baobab"/>
          <p:cNvPicPr/>
          <p:nvPr/>
        </p:nvPicPr>
        <p:blipFill>
          <a:blip r:embed="rId1"/>
          <a:stretch/>
        </p:blipFill>
        <p:spPr>
          <a:xfrm>
            <a:off x="-1800" y="0"/>
            <a:ext cx="518760" cy="57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1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1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1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3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4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8_Beam">
  <a:themeElements>
    <a:clrScheme name="Beam 2">
      <a:dk1>
        <a:srgbClr val="000080"/>
      </a:dk1>
      <a:lt1>
        <a:srgbClr val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000099"/>
      </a:dk2>
      <a:lt2>
        <a:srgbClr val="ffffff"/>
      </a:lt2>
      <a:accent1>
        <a:srgbClr val="3366ff"/>
      </a:accent1>
      <a:accent2>
        <a:srgbClr val="7b46d0"/>
      </a:accent2>
      <a:accent3>
        <a:srgbClr val="aaaaca"/>
      </a:accent3>
      <a:accent4>
        <a:srgbClr val="dadada"/>
      </a:accent4>
      <a:accent5>
        <a:srgbClr val="adb8ff"/>
      </a:accent5>
      <a:accent6>
        <a:srgbClr val="6f3fbc"/>
      </a:accent6>
      <a:hlink>
        <a:srgbClr val="86d1ec"/>
      </a:hlink>
      <a:folHlink>
        <a:srgbClr val="45c984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83</TotalTime>
  <Application>LibreOffice/7.4.7.2$Linux_X86_64 LibreOffice_project/40$Build-2</Application>
  <AppVersion>15.0000</AppVersion>
  <Words>1016</Words>
  <Paragraphs>34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01T16:46:28Z</dcterms:created>
  <dc:creator>Daniele</dc:creator>
  <dc:description/>
  <dc:language>en-US</dc:language>
  <cp:lastModifiedBy>ANDREA</cp:lastModifiedBy>
  <cp:lastPrinted>1601-01-01T00:00:00Z</cp:lastPrinted>
  <dcterms:modified xsi:type="dcterms:W3CDTF">2015-04-15T13:23:22Z</dcterms:modified>
  <cp:revision>301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5</vt:r8>
  </property>
  <property fmtid="{D5CDD505-2E9C-101B-9397-08002B2CF9AE}" pid="3" name="PresentationFormat">
    <vt:lpwstr>Presentazione su schermo (4:3)</vt:lpwstr>
  </property>
  <property fmtid="{D5CDD505-2E9C-101B-9397-08002B2CF9AE}" pid="4" name="Slides">
    <vt:r8>5</vt:r8>
  </property>
  <property fmtid="{D5CDD505-2E9C-101B-9397-08002B2CF9AE}" pid="5" name="Version">
    <vt:r8>7</vt:r8>
  </property>
</Properties>
</file>