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4B4-7334-4270-AFA4-AF92F07F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2F3-A27C-4552-B8B1-630122F3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889-BC62-4B44-AA65-1251FDE8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03B-1A71-4805-B157-53B63B5A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D2F-B98E-43CC-BCBD-0F013112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AAA-08E8-4FA4-AEAD-044E8987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D65-A408-463C-A784-386BD62C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F91-EBD1-4A61-9210-20D11092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E23-0765-4F24-B5D4-562EA880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739-A3F3-4167-9D64-047C2366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45F-DCA6-4856-9E00-A555C99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06E-81A6-4C2A-B20F-E64754A7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EA24-2743-401C-98B4-A2932831E41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Spirale del tempo"/>
          <p:cNvPicPr/>
          <p:nvPr/>
        </p:nvPicPr>
        <p:blipFill>
          <a:blip r:embed="rId1"/>
          <a:stretch/>
        </p:blipFill>
        <p:spPr>
          <a:xfrm>
            <a:off x="1428840" y="100008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2.amando.it/imagesdyn/articoli/20/50/18177.jpg"/>
          <p:cNvPicPr/>
          <p:nvPr/>
        </p:nvPicPr>
        <p:blipFill>
          <a:blip r:embed="rId1"/>
          <a:stretch/>
        </p:blipFill>
        <p:spPr>
          <a:xfrm>
            <a:off x="785880" y="357120"/>
            <a:ext cx="2368440" cy="270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magazine.expo2015.org/cs/Exponet/1393338487337/exponet/800X490/cacao-prezioso.jpg"/>
          <p:cNvPicPr/>
          <p:nvPr/>
        </p:nvPicPr>
        <p:blipFill>
          <a:blip r:embed="rId2"/>
          <a:stretch/>
        </p:blipFill>
        <p:spPr>
          <a:xfrm>
            <a:off x="3714840" y="1071720"/>
            <a:ext cx="4830840" cy="29574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5"/>
          <p:cNvSpPr/>
          <p:nvPr/>
        </p:nvSpPr>
        <p:spPr>
          <a:xfrm>
            <a:off x="857160" y="32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tchi, ciliegia c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3714840" y="4143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o del c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freepik.com/foto-gratuito/noce-di-cocco_2672328.jpg"/>
          <p:cNvPicPr/>
          <p:nvPr/>
        </p:nvPicPr>
        <p:blipFill>
          <a:blip r:embed="rId3"/>
          <a:stretch/>
        </p:blipFill>
        <p:spPr>
          <a:xfrm>
            <a:off x="571680" y="3714840"/>
            <a:ext cx="271440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335772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ce di c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2120760" cy="33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714840" y="1071720"/>
            <a:ext cx="190332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357960" y="1143000"/>
            <a:ext cx="1803240" cy="3143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357200" y="5143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sti vegetali dell’E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Vegroni, Veneto,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462040" cy="28512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1000080" y="4857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a dell’Eo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su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43280" y="714240"/>
            <a:ext cx="2311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8032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3840" y="4071960"/>
            <a:ext cx="110484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00040" y="3214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chio di una tigre dai denti a sci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2643120" y="5143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6"/>
          <p:cNvSpPr/>
          <p:nvPr/>
        </p:nvSpPr>
        <p:spPr>
          <a:xfrm>
            <a:off x="6643800" y="59292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igd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3" descr="http://www.csrl.it/common/img/home/slide_03.jpg"/>
          <p:cNvPicPr/>
          <p:nvPr/>
        </p:nvPicPr>
        <p:blipFill>
          <a:blip r:embed="rId1"/>
          <a:stretch/>
        </p:blipFill>
        <p:spPr>
          <a:xfrm>
            <a:off x="1511280" y="1979640"/>
            <a:ext cx="6121440" cy="2898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1357200" y="53578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ancarlo Ligabue, paleontologo, archeologo e antropo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1000080" y="5929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bitanti locali chiamavano il luogo del ritrovamento: i serpenti di pi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4643640" cy="30002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1714680" y="5715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ANOSAURUS NIGER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rc_mi" descr="http://www.dinosoria.com/prehistoire/sarcosuchus.jpg"/>
          <p:cNvPicPr/>
          <p:nvPr/>
        </p:nvPicPr>
        <p:blipFill>
          <a:blip r:embed="rId1"/>
          <a:stretch/>
        </p:blipFill>
        <p:spPr>
          <a:xfrm>
            <a:off x="500040" y="42876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irc_mi" descr="http://d3qi0qp55mx5f5.cloudfront.net/paulsereno/i/discoveries/sarcosuchus_04.jpg"/>
          <p:cNvPicPr/>
          <p:nvPr/>
        </p:nvPicPr>
        <p:blipFill>
          <a:blip r:embed="rId2"/>
          <a:stretch/>
        </p:blipFill>
        <p:spPr>
          <a:xfrm>
            <a:off x="5143680" y="500040"/>
            <a:ext cx="271440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3"/>
          <p:cNvSpPr/>
          <p:nvPr/>
        </p:nvSpPr>
        <p:spPr>
          <a:xfrm>
            <a:off x="214200" y="3429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RCOSUCHUS IM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uo nome significa: coccodrillo imperatore della carne, ed è il coccodrillo più grande che si cono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rc_mi" descr="http://animal.memozee.com/ArchOLD-7/1188973299.jpg"/>
          <p:cNvPicPr/>
          <p:nvPr/>
        </p:nvPicPr>
        <p:blipFill>
          <a:blip r:embed="rId3"/>
          <a:stretch/>
        </p:blipFill>
        <p:spPr>
          <a:xfrm>
            <a:off x="5214960" y="4357800"/>
            <a:ext cx="25131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5"/>
          <p:cNvSpPr/>
          <p:nvPr/>
        </p:nvSpPr>
        <p:spPr>
          <a:xfrm>
            <a:off x="285840" y="5572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o fra il cranio di un sarcosuchus imperator e un coccodrillo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haroni"/>
                <a:ea typeface="Aharoni"/>
              </a:rPr>
              <a:t>VIAGGIO FRA LE F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714240" y="192888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è il personaggio nell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ta fac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ersona nella foto si chiama Giancarlo Ligabue ed era: un paleontologo, un antropologo e un archeolo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zie alle sue spedizioni (più di 130 in tutto il mondo) ha contribuito ad ampliare le nostre conoscenze sulla pre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a le sue spedizioni più famose vi è quella nel deserto del Teneré (Africa centrale), dove ha scoperto un importante giacimento fossilifero del Cretaceo (110 milioni di anni f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questa spedizione ha trovato: lo scheletro quasi intatto di un dinosauro erbivoro e il cranio del più grande coccodrillo fino ad oggi conosci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857920" y="571680"/>
            <a:ext cx="2428920" cy="16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59388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4"/>
          <p:cNvSpPr/>
          <p:nvPr/>
        </p:nvSpPr>
        <p:spPr>
          <a:xfrm>
            <a:off x="1000080" y="3143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m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5786280" y="2500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6"/>
          <p:cNvSpPr/>
          <p:nvPr/>
        </p:nvSpPr>
        <p:spPr>
          <a:xfrm>
            <a:off x="4429080" y="607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715080" cy="38574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15717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iante del olig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478620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128592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felci e equiseti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Corona in Friuli Venezia Giulia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rc_mi" descr="http://www.informasalus.it/data/foto/l/l-equiseto_2370.jpg"/>
          <p:cNvPicPr/>
          <p:nvPr/>
        </p:nvPicPr>
        <p:blipFill>
          <a:blip r:embed="rId1"/>
          <a:stretch/>
        </p:blipFill>
        <p:spPr>
          <a:xfrm>
            <a:off x="6215040" y="264312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irc_mi" descr="http://static.giardinaggio.net/piante-appartamento/piante-appartamento/felce_NG3.jpg"/>
          <p:cNvPicPr/>
          <p:nvPr/>
        </p:nvPicPr>
        <p:blipFill>
          <a:blip r:embed="rId2"/>
          <a:stretch/>
        </p:blipFill>
        <p:spPr>
          <a:xfrm>
            <a:off x="285840" y="500040"/>
            <a:ext cx="560700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"/>
          <p:cNvSpPr/>
          <p:nvPr/>
        </p:nvSpPr>
        <p:spPr>
          <a:xfrm>
            <a:off x="6215040" y="20718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quis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28760" y="4429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53211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428760" y="42148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i di foglie ed insetti. Cogliere le analogie con la realtà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Risultati immagini per foto di foglie di alloro"/>
          <p:cNvPicPr/>
          <p:nvPr/>
        </p:nvPicPr>
        <p:blipFill>
          <a:blip r:embed="rId2"/>
          <a:stretch/>
        </p:blipFill>
        <p:spPr>
          <a:xfrm>
            <a:off x="928800" y="4857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disinfestazionetopiformicheactiva.it/polopoly_fs/1.42541.1405127702%21/httpImage/img.jpeg_gen/derivatives/landscape_480/img.jpeg"/>
          <p:cNvPicPr/>
          <p:nvPr/>
        </p:nvPicPr>
        <p:blipFill>
          <a:blip r:embed="rId3"/>
          <a:stretch/>
        </p:blipFill>
        <p:spPr>
          <a:xfrm>
            <a:off x="4714920" y="485784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214800" cy="4500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2"/>
          <p:cNvSpPr/>
          <p:nvPr/>
        </p:nvSpPr>
        <p:spPr>
          <a:xfrm>
            <a:off x="714240" y="50007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e del Mi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rc_mi" descr="http://dip.sun.ac.za/%7Emfmaritz/DIP/DIPweb/mapleleaf03.jpg"/>
          <p:cNvPicPr/>
          <p:nvPr/>
        </p:nvPicPr>
        <p:blipFill>
          <a:blip r:embed="rId2"/>
          <a:stretch/>
        </p:blipFill>
        <p:spPr>
          <a:xfrm>
            <a:off x="5572080" y="2286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sultati immagini per foto di foglie"/>
          <p:cNvPicPr/>
          <p:nvPr/>
        </p:nvPicPr>
        <p:blipFill>
          <a:blip r:embed="rId3"/>
          <a:stretch/>
        </p:blipFill>
        <p:spPr>
          <a:xfrm>
            <a:off x="5715000" y="450072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isultati immagini per foto di foglie"/>
          <p:cNvPicPr/>
          <p:nvPr/>
        </p:nvPicPr>
        <p:blipFill>
          <a:blip r:embed="rId4"/>
          <a:stretch/>
        </p:blipFill>
        <p:spPr>
          <a:xfrm>
            <a:off x="5572080" y="214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314352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1643040" y="4714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teccia di felce arborea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nel bacino della Ruhr in Ger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5272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4457880" cy="19684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1071720" y="4214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i dell’E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nienti da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56:38Z</dcterms:created>
  <dc:creator>laura</dc:creator>
  <dc:description/>
  <dc:language>en-US</dc:language>
  <cp:lastModifiedBy>Laura Marrazzo</cp:lastModifiedBy>
  <dcterms:modified xsi:type="dcterms:W3CDTF">2019-03-05T17:15:49Z</dcterms:modified>
  <cp:revision>91</cp:revision>
  <dc:subject/>
  <dc:title>VIAGGIO NELLA PREISTORIA</dc:title>
</cp:coreProperties>
</file>