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CAAE4D7-BCC4-426B-ACFA-CF2270BE04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E5F1BDA-B091-49D1-BF81-5DB2C266CF8D}" type="slidenum">
              <a:rPr b="0" lang="it-IT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92E5A9A-0514-4995-AB24-27EDA5A4A30F}" type="slidenum">
              <a:rPr b="0" lang="it-IT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sldNum" idx="1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A994D87-0D37-461B-A84D-C2FC30A1B0E1}" type="slidenum">
              <a:rPr b="0" lang="it-IT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4BB5048-DF66-414F-A9FF-68D1F2462847}" type="slidenum">
              <a:rPr b="0" lang="it-IT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9326-1B6A-4AAD-BD26-267E422A7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9574-A73A-451D-AE9A-B5EACCC4D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A092-0082-42F7-8649-C0D56627C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AA33-20AA-44B1-B67D-0D62FC38E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DC59F-E07D-4836-A769-DC863ADE0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DE0E3-D07B-46E7-BF60-B3EC349AA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3D95F-0569-40E0-AB86-54978ABA6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031D3-98D3-44A0-BB53-60666DDFB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3D739-F1DD-466A-A279-9F8E72BA1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94144-7360-46C4-B61F-D46B226B3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DED97-9697-4915-82AC-C9F450458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654A-826D-480D-95FF-703E29B57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43ECF-AB24-4AC5-AC60-4839D97E3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569E1-C836-4733-B2A3-4D322EAEA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A51A2-6612-4B13-992D-A9D286F41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BEE55-4093-4A84-A491-F0B53FF5A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E2825-88B3-48EA-ADEB-2FCEE9C23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F35F-3B1A-4C44-987E-469B88E2C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EE21-93F4-4D8D-9B98-0B23AE38E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8B2A-1AF0-496E-8D1E-BD0E95A7F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CFD1-6A8D-4FF1-9AB8-202E52B77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A7F5-252E-4FCB-968B-2F198E457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FD20-E982-4F07-94B7-72FAA4495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3DD5-016D-4A9D-90C0-1A27964C4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3640" cy="6856200"/>
            <a:chOff x="0" y="0"/>
            <a:chExt cx="9143640" cy="685620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400" cy="5195520"/>
            </a:xfrm>
            <a:custGeom>
              <a:avLst/>
              <a:gdLst>
                <a:gd name="textAreaLeft" fmla="*/ 0 w 9140400"/>
                <a:gd name="textAreaRight" fmla="*/ 9140760 w 9140400"/>
                <a:gd name="textAreaTop" fmla="*/ 0 h 5195520"/>
                <a:gd name="textAreaBottom" fmla="*/ 5195880 h 519552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3880" cy="5148000"/>
            </a:xfrm>
            <a:custGeom>
              <a:avLst/>
              <a:gdLst>
                <a:gd name="textAreaLeft" fmla="*/ 0 w 8903880"/>
                <a:gd name="textAreaRight" fmla="*/ 8904240 w 8903880"/>
                <a:gd name="textAreaTop" fmla="*/ 0 h 5148000"/>
                <a:gd name="textAreaBottom" fmla="*/ 5148360 h 514800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09800" cy="302760"/>
            </a:xfrm>
            <a:custGeom>
              <a:avLst/>
              <a:gdLst>
                <a:gd name="textAreaLeft" fmla="*/ 0 w 6409800"/>
                <a:gd name="textAreaRight" fmla="*/ 6410160 w 6409800"/>
                <a:gd name="textAreaTop" fmla="*/ 0 h 302760"/>
                <a:gd name="textAreaBottom" fmla="*/ 303120 h 30276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0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240" cy="102960"/>
            </a:xfrm>
            <a:custGeom>
              <a:avLst/>
              <a:gdLst>
                <a:gd name="textAreaLeft" fmla="*/ 0 w 2730240"/>
                <a:gd name="textAreaRight" fmla="*/ 2730600 w 273024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200" cy="522000"/>
            </a:xfrm>
            <a:custGeom>
              <a:avLst/>
              <a:gdLst>
                <a:gd name="textAreaLeft" fmla="*/ 0 w 7594200"/>
                <a:gd name="textAreaRight" fmla="*/ 7594560 w 759420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5840" cy="159840"/>
            </a:xfrm>
            <a:custGeom>
              <a:avLst/>
              <a:gdLst>
                <a:gd name="textAreaLeft" fmla="*/ 0 w 1545840"/>
                <a:gd name="textAreaRight" fmla="*/ 1546200 w 154584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160" cy="313920"/>
            </a:xfrm>
            <a:custGeom>
              <a:avLst/>
              <a:gdLst>
                <a:gd name="textAreaLeft" fmla="*/ 0 w 3395160"/>
                <a:gd name="textAreaRight" fmla="*/ 3395520 w 3395160"/>
                <a:gd name="textAreaTop" fmla="*/ 0 h 313920"/>
                <a:gd name="textAreaBottom" fmla="*/ 314280 h 31392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4880" cy="552240"/>
            </a:xfrm>
            <a:custGeom>
              <a:avLst/>
              <a:gdLst>
                <a:gd name="textAreaLeft" fmla="*/ 0 w 5744880"/>
                <a:gd name="textAreaRight" fmla="*/ 5745240 w 5744880"/>
                <a:gd name="textAreaTop" fmla="*/ 0 h 552240"/>
                <a:gd name="textAreaBottom" fmla="*/ 552600 h 55224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600" cy="437760"/>
            </a:xfrm>
            <a:custGeom>
              <a:avLst/>
              <a:gdLst>
                <a:gd name="textAreaLeft" fmla="*/ 0 w 3990600"/>
                <a:gd name="textAreaRight" fmla="*/ 3990960 w 3990600"/>
                <a:gd name="textAreaTop" fmla="*/ 0 h 437760"/>
                <a:gd name="textAreaBottom" fmla="*/ 438120 h 43776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400" cy="599760"/>
            </a:xfrm>
            <a:custGeom>
              <a:avLst/>
              <a:gdLst>
                <a:gd name="textAreaLeft" fmla="*/ 0 w 2228400"/>
                <a:gd name="textAreaRight" fmla="*/ 2228760 w 2228400"/>
                <a:gd name="textAreaTop" fmla="*/ 0 h 599760"/>
                <a:gd name="textAreaBottom" fmla="*/ 600120 h 59976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240" cy="380520"/>
            </a:xfrm>
            <a:custGeom>
              <a:avLst/>
              <a:gdLst>
                <a:gd name="textAreaLeft" fmla="*/ 0 w 1155240"/>
                <a:gd name="textAreaRight" fmla="*/ 1155600 w 1155240"/>
                <a:gd name="textAreaTop" fmla="*/ 0 h 380520"/>
                <a:gd name="textAreaBottom" fmla="*/ 380880 h 38052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4800" cy="2652480"/>
            </a:xfrm>
            <a:custGeom>
              <a:avLst/>
              <a:gdLst>
                <a:gd name="textAreaLeft" fmla="*/ 0 w 7984800"/>
                <a:gd name="textAreaRight" fmla="*/ 7985160 w 798480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240" cy="504360"/>
            </a:xfrm>
            <a:custGeom>
              <a:avLst/>
              <a:gdLst>
                <a:gd name="textAreaLeft" fmla="*/ 0 w 1155240"/>
                <a:gd name="textAreaRight" fmla="*/ 1155600 w 1155240"/>
                <a:gd name="textAreaTop" fmla="*/ 0 h 504360"/>
                <a:gd name="textAreaBottom" fmla="*/ 504720 h 50436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4800" cy="3471480"/>
            </a:xfrm>
            <a:custGeom>
              <a:avLst/>
              <a:gdLst>
                <a:gd name="textAreaLeft" fmla="*/ 0 w 7984800"/>
                <a:gd name="textAreaRight" fmla="*/ 7985160 w 7984800"/>
                <a:gd name="textAreaTop" fmla="*/ 0 h 3471480"/>
                <a:gd name="textAreaBottom" fmla="*/ 3471840 h 347148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440" cy="4325400"/>
            </a:xfrm>
            <a:custGeom>
              <a:avLst/>
              <a:gdLst>
                <a:gd name="textAreaLeft" fmla="*/ 0 w 5014440"/>
                <a:gd name="textAreaRight" fmla="*/ 5014800 w 5014440"/>
                <a:gd name="textAreaTop" fmla="*/ 0 h 4325400"/>
                <a:gd name="textAreaBottom" fmla="*/ 4325760 h 432540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280" cy="474480"/>
            </a:xfrm>
            <a:custGeom>
              <a:avLst/>
              <a:gdLst>
                <a:gd name="textAreaLeft" fmla="*/ 0 w 512280"/>
                <a:gd name="textAreaRight" fmla="*/ 512640 w 512280"/>
                <a:gd name="textAreaTop" fmla="*/ 0 h 474480"/>
                <a:gd name="textAreaBottom" fmla="*/ 474840 h 47448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5680" cy="531360"/>
            </a:xfrm>
            <a:custGeom>
              <a:avLst/>
              <a:gdLst>
                <a:gd name="textAreaLeft" fmla="*/ 0 w 445680"/>
                <a:gd name="textAreaRight" fmla="*/ 446040 w 445680"/>
                <a:gd name="textAreaTop" fmla="*/ 0 h 531360"/>
                <a:gd name="textAreaBottom" fmla="*/ 531720 h 53136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080" cy="4250880"/>
            </a:xfrm>
            <a:custGeom>
              <a:avLst/>
              <a:gdLst>
                <a:gd name="textAreaLeft" fmla="*/ 0 w 4951080"/>
                <a:gd name="textAreaRight" fmla="*/ 4951440 w 4951080"/>
                <a:gd name="textAreaTop" fmla="*/ 0 h 4250880"/>
                <a:gd name="textAreaBottom" fmla="*/ 4251240 h 425088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6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160" cy="209160"/>
            </a:xfrm>
            <a:custGeom>
              <a:avLst/>
              <a:gdLst>
                <a:gd name="textAreaLeft" fmla="*/ 0 w 209160"/>
                <a:gd name="textAreaRight" fmla="*/ 209520 w 209160"/>
                <a:gd name="textAreaTop" fmla="*/ 0 h 209160"/>
                <a:gd name="textAreaBottom" fmla="*/ 209520 h 20916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600" cy="4022280"/>
            </a:xfrm>
            <a:custGeom>
              <a:avLst/>
              <a:gdLst>
                <a:gd name="textAreaLeft" fmla="*/ 0 w 3990600"/>
                <a:gd name="textAreaRight" fmla="*/ 3990960 w 3990600"/>
                <a:gd name="textAreaTop" fmla="*/ 0 h 4022280"/>
                <a:gd name="textAreaBottom" fmla="*/ 4022640 h 402228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e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120" cy="3936600"/>
            </a:xfrm>
            <a:custGeom>
              <a:avLst/>
              <a:gdLst>
                <a:gd name="textAreaLeft" fmla="*/ 0 w 3489120"/>
                <a:gd name="textAreaRight" fmla="*/ 3489480 w 3489120"/>
                <a:gd name="textAreaTop" fmla="*/ 0 h 3936600"/>
                <a:gd name="textAreaBottom" fmla="*/ 3936960 h 393660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2840" cy="151920"/>
            </a:xfrm>
            <a:custGeom>
              <a:avLst/>
              <a:gdLst>
                <a:gd name="textAreaLeft" fmla="*/ 0 w 132840"/>
                <a:gd name="textAreaRight" fmla="*/ 133200 w 13284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616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864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8640"/>
                <a:gd name="textAreaBottom" fmla="*/ 819000 h 81864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360" cy="1653840"/>
            </a:xfrm>
            <a:custGeom>
              <a:avLst/>
              <a:gdLst>
                <a:gd name="textAreaLeft" fmla="*/ 0 w 909360"/>
                <a:gd name="textAreaRight" fmla="*/ 909720 w 909360"/>
                <a:gd name="textAreaTop" fmla="*/ 0 h 1653840"/>
                <a:gd name="textAreaBottom" fmla="*/ 1654200 h 165384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080" cy="126324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1263240"/>
                <a:gd name="textAreaBottom" fmla="*/ 1263600 h 126324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20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200"/>
                <a:gd name="textAreaBottom" fmla="*/ 493560 h 49320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040" cy="2958840"/>
            </a:xfrm>
            <a:custGeom>
              <a:avLst/>
              <a:gdLst>
                <a:gd name="textAreaLeft" fmla="*/ 0 w 9131040"/>
                <a:gd name="textAreaRight" fmla="*/ 9131400 w 9131040"/>
                <a:gd name="textAreaTop" fmla="*/ 0 h 2958840"/>
                <a:gd name="textAreaBottom" fmla="*/ 2959200 h 295884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040" cy="2122200"/>
            </a:xfrm>
            <a:custGeom>
              <a:avLst/>
              <a:gdLst>
                <a:gd name="textAreaLeft" fmla="*/ 0 w 9131040"/>
                <a:gd name="textAreaRight" fmla="*/ 9131400 w 9131040"/>
                <a:gd name="textAreaTop" fmla="*/ 0 h 2122200"/>
                <a:gd name="textAreaBottom" fmla="*/ 2122560 h 212220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040" cy="657000"/>
            </a:xfrm>
            <a:custGeom>
              <a:avLst/>
              <a:gdLst>
                <a:gd name="textAreaLeft" fmla="*/ 0 w 9131040"/>
                <a:gd name="textAreaRight" fmla="*/ 9131400 w 913104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080" cy="5043240"/>
            </a:xfrm>
            <a:custGeom>
              <a:avLst/>
              <a:gdLst>
                <a:gd name="textAreaLeft" fmla="*/ 0 w 7075080"/>
                <a:gd name="textAreaRight" fmla="*/ 7075440 w 7075080"/>
                <a:gd name="textAreaTop" fmla="*/ 0 h 5043240"/>
                <a:gd name="textAreaBottom" fmla="*/ 5043600 h 504324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080" cy="4149360"/>
            </a:xfrm>
            <a:custGeom>
              <a:avLst/>
              <a:gdLst>
                <a:gd name="textAreaLeft" fmla="*/ 0 w 3862080"/>
                <a:gd name="textAreaRight" fmla="*/ 3862440 w 3862080"/>
                <a:gd name="textAreaTop" fmla="*/ 0 h 4149360"/>
                <a:gd name="textAreaBottom" fmla="*/ 4149720 h 414936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3440" cy="3911400"/>
            </a:xfrm>
            <a:custGeom>
              <a:avLst/>
              <a:gdLst>
                <a:gd name="textAreaLeft" fmla="*/ 0 w 2863440"/>
                <a:gd name="textAreaRight" fmla="*/ 2863800 w 2863440"/>
                <a:gd name="textAreaTop" fmla="*/ 0 h 3911400"/>
                <a:gd name="textAreaBottom" fmla="*/ 3911760 h 391140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200" cy="3292200"/>
            </a:xfrm>
            <a:custGeom>
              <a:avLst/>
              <a:gdLst>
                <a:gd name="textAreaLeft" fmla="*/ 0 w 1960200"/>
                <a:gd name="textAreaRight" fmla="*/ 1960560 w 1960200"/>
                <a:gd name="textAreaTop" fmla="*/ 0 h 3292200"/>
                <a:gd name="textAreaBottom" fmla="*/ 3292560 h 329220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2280" cy="3072960"/>
            </a:xfrm>
            <a:custGeom>
              <a:avLst/>
              <a:gdLst>
                <a:gd name="textAreaLeft" fmla="*/ 0 w 1682280"/>
                <a:gd name="textAreaRight" fmla="*/ 1682640 w 1682280"/>
                <a:gd name="textAreaTop" fmla="*/ 0 h 3072960"/>
                <a:gd name="textAreaBottom" fmla="*/ 3073320 h 307296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6880" cy="2360160"/>
            </a:xfrm>
            <a:custGeom>
              <a:avLst/>
              <a:gdLst>
                <a:gd name="textAreaLeft" fmla="*/ 0 w 1226880"/>
                <a:gd name="textAreaRight" fmla="*/ 1227240 w 1226880"/>
                <a:gd name="textAreaTop" fmla="*/ 0 h 2360160"/>
                <a:gd name="textAreaBottom" fmla="*/ 2360520 h 236016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400" cy="2949120"/>
              <a:chOff x="0" y="2590920"/>
              <a:chExt cx="9140400" cy="294912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5880" cy="2084040"/>
              </a:xfrm>
              <a:custGeom>
                <a:avLst/>
                <a:gdLst>
                  <a:gd name="textAreaLeft" fmla="*/ 0 w 5825880"/>
                  <a:gd name="textAreaRight" fmla="*/ 5826240 w 5825880"/>
                  <a:gd name="textAreaTop" fmla="*/ 0 h 2084040"/>
                  <a:gd name="textAreaBottom" fmla="*/ 2084400 h 208404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it-IT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320" cy="1103040"/>
              </a:xfrm>
              <a:custGeom>
                <a:avLst/>
                <a:gdLst>
                  <a:gd name="textAreaLeft" fmla="*/ 0 w 3352320"/>
                  <a:gd name="textAreaRight" fmla="*/ 3352680 w 335232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616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it-IT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Fare clic per modificare lo stile del titolo</a:t>
            </a: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7200" y="6243480"/>
            <a:ext cx="21333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3480"/>
            <a:ext cx="21333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0B990DF-EAA8-4C18-821D-2D76F155E8D4}" type="slidenum">
              <a:rPr b="0" lang="it-IT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3640" cy="6856200"/>
            <a:chOff x="0" y="0"/>
            <a:chExt cx="9143640" cy="685620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400" cy="5195520"/>
            </a:xfrm>
            <a:custGeom>
              <a:avLst/>
              <a:gdLst>
                <a:gd name="textAreaLeft" fmla="*/ 0 w 9140400"/>
                <a:gd name="textAreaRight" fmla="*/ 9140760 w 9140400"/>
                <a:gd name="textAreaTop" fmla="*/ 0 h 5195520"/>
                <a:gd name="textAreaBottom" fmla="*/ 5195880 h 519552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3880" cy="5148000"/>
            </a:xfrm>
            <a:custGeom>
              <a:avLst/>
              <a:gdLst>
                <a:gd name="textAreaLeft" fmla="*/ 0 w 8903880"/>
                <a:gd name="textAreaRight" fmla="*/ 8904240 w 8903880"/>
                <a:gd name="textAreaTop" fmla="*/ 0 h 5148000"/>
                <a:gd name="textAreaBottom" fmla="*/ 5148360 h 514800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09800" cy="302760"/>
            </a:xfrm>
            <a:custGeom>
              <a:avLst/>
              <a:gdLst>
                <a:gd name="textAreaLeft" fmla="*/ 0 w 6409800"/>
                <a:gd name="textAreaRight" fmla="*/ 6410160 w 6409800"/>
                <a:gd name="textAreaTop" fmla="*/ 0 h 302760"/>
                <a:gd name="textAreaBottom" fmla="*/ 303120 h 30276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0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240" cy="102960"/>
            </a:xfrm>
            <a:custGeom>
              <a:avLst/>
              <a:gdLst>
                <a:gd name="textAreaLeft" fmla="*/ 0 w 2730240"/>
                <a:gd name="textAreaRight" fmla="*/ 2730600 w 273024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200" cy="522000"/>
            </a:xfrm>
            <a:custGeom>
              <a:avLst/>
              <a:gdLst>
                <a:gd name="textAreaLeft" fmla="*/ 0 w 7594200"/>
                <a:gd name="textAreaRight" fmla="*/ 7594560 w 759420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5840" cy="159840"/>
            </a:xfrm>
            <a:custGeom>
              <a:avLst/>
              <a:gdLst>
                <a:gd name="textAreaLeft" fmla="*/ 0 w 1545840"/>
                <a:gd name="textAreaRight" fmla="*/ 1546200 w 154584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160" cy="313920"/>
            </a:xfrm>
            <a:custGeom>
              <a:avLst/>
              <a:gdLst>
                <a:gd name="textAreaLeft" fmla="*/ 0 w 3395160"/>
                <a:gd name="textAreaRight" fmla="*/ 3395520 w 3395160"/>
                <a:gd name="textAreaTop" fmla="*/ 0 h 313920"/>
                <a:gd name="textAreaBottom" fmla="*/ 314280 h 31392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4880" cy="552240"/>
            </a:xfrm>
            <a:custGeom>
              <a:avLst/>
              <a:gdLst>
                <a:gd name="textAreaLeft" fmla="*/ 0 w 5744880"/>
                <a:gd name="textAreaRight" fmla="*/ 5745240 w 5744880"/>
                <a:gd name="textAreaTop" fmla="*/ 0 h 552240"/>
                <a:gd name="textAreaBottom" fmla="*/ 552600 h 55224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600" cy="437760"/>
            </a:xfrm>
            <a:custGeom>
              <a:avLst/>
              <a:gdLst>
                <a:gd name="textAreaLeft" fmla="*/ 0 w 3990600"/>
                <a:gd name="textAreaRight" fmla="*/ 3990960 w 3990600"/>
                <a:gd name="textAreaTop" fmla="*/ 0 h 437760"/>
                <a:gd name="textAreaBottom" fmla="*/ 438120 h 43776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400" cy="599760"/>
            </a:xfrm>
            <a:custGeom>
              <a:avLst/>
              <a:gdLst>
                <a:gd name="textAreaLeft" fmla="*/ 0 w 2228400"/>
                <a:gd name="textAreaRight" fmla="*/ 2228760 w 2228400"/>
                <a:gd name="textAreaTop" fmla="*/ 0 h 599760"/>
                <a:gd name="textAreaBottom" fmla="*/ 600120 h 59976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240" cy="380520"/>
            </a:xfrm>
            <a:custGeom>
              <a:avLst/>
              <a:gdLst>
                <a:gd name="textAreaLeft" fmla="*/ 0 w 1155240"/>
                <a:gd name="textAreaRight" fmla="*/ 1155600 w 1155240"/>
                <a:gd name="textAreaTop" fmla="*/ 0 h 380520"/>
                <a:gd name="textAreaBottom" fmla="*/ 380880 h 38052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4800" cy="2652480"/>
            </a:xfrm>
            <a:custGeom>
              <a:avLst/>
              <a:gdLst>
                <a:gd name="textAreaLeft" fmla="*/ 0 w 7984800"/>
                <a:gd name="textAreaRight" fmla="*/ 7985160 w 798480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240" cy="504360"/>
            </a:xfrm>
            <a:custGeom>
              <a:avLst/>
              <a:gdLst>
                <a:gd name="textAreaLeft" fmla="*/ 0 w 1155240"/>
                <a:gd name="textAreaRight" fmla="*/ 1155600 w 1155240"/>
                <a:gd name="textAreaTop" fmla="*/ 0 h 504360"/>
                <a:gd name="textAreaBottom" fmla="*/ 504720 h 50436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4800" cy="3471480"/>
            </a:xfrm>
            <a:custGeom>
              <a:avLst/>
              <a:gdLst>
                <a:gd name="textAreaLeft" fmla="*/ 0 w 7984800"/>
                <a:gd name="textAreaRight" fmla="*/ 7985160 w 7984800"/>
                <a:gd name="textAreaTop" fmla="*/ 0 h 3471480"/>
                <a:gd name="textAreaBottom" fmla="*/ 3471840 h 347148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440" cy="4325400"/>
            </a:xfrm>
            <a:custGeom>
              <a:avLst/>
              <a:gdLst>
                <a:gd name="textAreaLeft" fmla="*/ 0 w 5014440"/>
                <a:gd name="textAreaRight" fmla="*/ 5014800 w 5014440"/>
                <a:gd name="textAreaTop" fmla="*/ 0 h 4325400"/>
                <a:gd name="textAreaBottom" fmla="*/ 4325760 h 432540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280" cy="474480"/>
            </a:xfrm>
            <a:custGeom>
              <a:avLst/>
              <a:gdLst>
                <a:gd name="textAreaLeft" fmla="*/ 0 w 512280"/>
                <a:gd name="textAreaRight" fmla="*/ 512640 w 512280"/>
                <a:gd name="textAreaTop" fmla="*/ 0 h 474480"/>
                <a:gd name="textAreaBottom" fmla="*/ 474840 h 47448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5680" cy="531360"/>
            </a:xfrm>
            <a:custGeom>
              <a:avLst/>
              <a:gdLst>
                <a:gd name="textAreaLeft" fmla="*/ 0 w 445680"/>
                <a:gd name="textAreaRight" fmla="*/ 446040 w 445680"/>
                <a:gd name="textAreaTop" fmla="*/ 0 h 531360"/>
                <a:gd name="textAreaBottom" fmla="*/ 531720 h 53136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080" cy="4250880"/>
            </a:xfrm>
            <a:custGeom>
              <a:avLst/>
              <a:gdLst>
                <a:gd name="textAreaLeft" fmla="*/ 0 w 4951080"/>
                <a:gd name="textAreaRight" fmla="*/ 4951440 w 4951080"/>
                <a:gd name="textAreaTop" fmla="*/ 0 h 4250880"/>
                <a:gd name="textAreaBottom" fmla="*/ 4251240 h 425088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6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160" cy="209160"/>
            </a:xfrm>
            <a:custGeom>
              <a:avLst/>
              <a:gdLst>
                <a:gd name="textAreaLeft" fmla="*/ 0 w 209160"/>
                <a:gd name="textAreaRight" fmla="*/ 209520 w 209160"/>
                <a:gd name="textAreaTop" fmla="*/ 0 h 209160"/>
                <a:gd name="textAreaBottom" fmla="*/ 209520 h 20916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600" cy="4022280"/>
            </a:xfrm>
            <a:custGeom>
              <a:avLst/>
              <a:gdLst>
                <a:gd name="textAreaLeft" fmla="*/ 0 w 3990600"/>
                <a:gd name="textAreaRight" fmla="*/ 3990960 w 3990600"/>
                <a:gd name="textAreaTop" fmla="*/ 0 h 4022280"/>
                <a:gd name="textAreaBottom" fmla="*/ 4022640 h 402228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e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120" cy="3936600"/>
            </a:xfrm>
            <a:custGeom>
              <a:avLst/>
              <a:gdLst>
                <a:gd name="textAreaLeft" fmla="*/ 0 w 3489120"/>
                <a:gd name="textAreaRight" fmla="*/ 3489480 w 3489120"/>
                <a:gd name="textAreaTop" fmla="*/ 0 h 3936600"/>
                <a:gd name="textAreaBottom" fmla="*/ 3936960 h 393660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2840" cy="151920"/>
            </a:xfrm>
            <a:custGeom>
              <a:avLst/>
              <a:gdLst>
                <a:gd name="textAreaLeft" fmla="*/ 0 w 132840"/>
                <a:gd name="textAreaRight" fmla="*/ 133200 w 13284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616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864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8640"/>
                <a:gd name="textAreaBottom" fmla="*/ 819000 h 81864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360" cy="1653840"/>
            </a:xfrm>
            <a:custGeom>
              <a:avLst/>
              <a:gdLst>
                <a:gd name="textAreaLeft" fmla="*/ 0 w 909360"/>
                <a:gd name="textAreaRight" fmla="*/ 909720 w 909360"/>
                <a:gd name="textAreaTop" fmla="*/ 0 h 1653840"/>
                <a:gd name="textAreaBottom" fmla="*/ 1654200 h 165384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080" cy="126324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1263240"/>
                <a:gd name="textAreaBottom" fmla="*/ 1263600 h 126324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20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200"/>
                <a:gd name="textAreaBottom" fmla="*/ 493560 h 49320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040" cy="2958840"/>
            </a:xfrm>
            <a:custGeom>
              <a:avLst/>
              <a:gdLst>
                <a:gd name="textAreaLeft" fmla="*/ 0 w 9131040"/>
                <a:gd name="textAreaRight" fmla="*/ 9131400 w 9131040"/>
                <a:gd name="textAreaTop" fmla="*/ 0 h 2958840"/>
                <a:gd name="textAreaBottom" fmla="*/ 2959200 h 295884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040" cy="2122200"/>
            </a:xfrm>
            <a:custGeom>
              <a:avLst/>
              <a:gdLst>
                <a:gd name="textAreaLeft" fmla="*/ 0 w 9131040"/>
                <a:gd name="textAreaRight" fmla="*/ 9131400 w 9131040"/>
                <a:gd name="textAreaTop" fmla="*/ 0 h 2122200"/>
                <a:gd name="textAreaBottom" fmla="*/ 2122560 h 212220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040" cy="657000"/>
            </a:xfrm>
            <a:custGeom>
              <a:avLst/>
              <a:gdLst>
                <a:gd name="textAreaLeft" fmla="*/ 0 w 9131040"/>
                <a:gd name="textAreaRight" fmla="*/ 9131400 w 913104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080" cy="5043240"/>
            </a:xfrm>
            <a:custGeom>
              <a:avLst/>
              <a:gdLst>
                <a:gd name="textAreaLeft" fmla="*/ 0 w 7075080"/>
                <a:gd name="textAreaRight" fmla="*/ 7075440 w 7075080"/>
                <a:gd name="textAreaTop" fmla="*/ 0 h 5043240"/>
                <a:gd name="textAreaBottom" fmla="*/ 5043600 h 504324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080" cy="4149360"/>
            </a:xfrm>
            <a:custGeom>
              <a:avLst/>
              <a:gdLst>
                <a:gd name="textAreaLeft" fmla="*/ 0 w 3862080"/>
                <a:gd name="textAreaRight" fmla="*/ 3862440 w 3862080"/>
                <a:gd name="textAreaTop" fmla="*/ 0 h 4149360"/>
                <a:gd name="textAreaBottom" fmla="*/ 4149720 h 414936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3440" cy="3911400"/>
            </a:xfrm>
            <a:custGeom>
              <a:avLst/>
              <a:gdLst>
                <a:gd name="textAreaLeft" fmla="*/ 0 w 2863440"/>
                <a:gd name="textAreaRight" fmla="*/ 2863800 w 2863440"/>
                <a:gd name="textAreaTop" fmla="*/ 0 h 3911400"/>
                <a:gd name="textAreaBottom" fmla="*/ 3911760 h 391140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200" cy="3292200"/>
            </a:xfrm>
            <a:custGeom>
              <a:avLst/>
              <a:gdLst>
                <a:gd name="textAreaLeft" fmla="*/ 0 w 1960200"/>
                <a:gd name="textAreaRight" fmla="*/ 1960560 w 1960200"/>
                <a:gd name="textAreaTop" fmla="*/ 0 h 3292200"/>
                <a:gd name="textAreaBottom" fmla="*/ 3292560 h 329220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2280" cy="3072960"/>
            </a:xfrm>
            <a:custGeom>
              <a:avLst/>
              <a:gdLst>
                <a:gd name="textAreaLeft" fmla="*/ 0 w 1682280"/>
                <a:gd name="textAreaRight" fmla="*/ 1682640 w 1682280"/>
                <a:gd name="textAreaTop" fmla="*/ 0 h 3072960"/>
                <a:gd name="textAreaBottom" fmla="*/ 3073320 h 307296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6880" cy="2360160"/>
            </a:xfrm>
            <a:custGeom>
              <a:avLst/>
              <a:gdLst>
                <a:gd name="textAreaLeft" fmla="*/ 0 w 1226880"/>
                <a:gd name="textAreaRight" fmla="*/ 1227240 w 1226880"/>
                <a:gd name="textAreaTop" fmla="*/ 0 h 2360160"/>
                <a:gd name="textAreaBottom" fmla="*/ 2360520 h 236016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400" cy="2949120"/>
              <a:chOff x="0" y="2590920"/>
              <a:chExt cx="9140400" cy="294912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5880" cy="2084040"/>
              </a:xfrm>
              <a:custGeom>
                <a:avLst/>
                <a:gdLst>
                  <a:gd name="textAreaLeft" fmla="*/ 0 w 5825880"/>
                  <a:gd name="textAreaRight" fmla="*/ 5826240 w 5825880"/>
                  <a:gd name="textAreaTop" fmla="*/ 0 h 2084040"/>
                  <a:gd name="textAreaBottom" fmla="*/ 2084400 h 208404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it-IT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320" cy="1103040"/>
              </a:xfrm>
              <a:custGeom>
                <a:avLst/>
                <a:gdLst>
                  <a:gd name="textAreaLeft" fmla="*/ 0 w 3352320"/>
                  <a:gd name="textAreaRight" fmla="*/ 3352680 w 335232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616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it-IT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Fare clic per modificare lo stile del titolo</a:t>
            </a: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7200" y="6243480"/>
            <a:ext cx="21333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3480"/>
            <a:ext cx="21333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BA9906D-887F-40FD-A7AB-9272C938303D}" type="slidenum">
              <a:rPr b="0" lang="it-IT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5400" spc="-1" strike="noStrike">
                <a:solidFill>
                  <a:srgbClr val="ff0000"/>
                </a:solidFill>
                <a:latin typeface="Arial"/>
              </a:rPr>
              <a:t>I giudizi di livello</a:t>
            </a:r>
            <a:endParaRPr b="0" lang="it-IT" sz="5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9" name="Segnaposto tabella 4"/>
          <p:cNvGraphicFramePr/>
          <p:nvPr/>
        </p:nvGraphicFramePr>
        <p:xfrm>
          <a:off x="457200" y="1600200"/>
          <a:ext cx="8229240" cy="3787920"/>
        </p:xfrm>
        <a:graphic>
          <a:graphicData uri="http://schemas.openxmlformats.org/drawingml/2006/table">
            <a:tbl>
              <a:tblPr/>
              <a:tblGrid>
                <a:gridCol w="1738440"/>
                <a:gridCol w="6490800"/>
              </a:tblGrid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it-IT" sz="3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A </a:t>
                      </a:r>
                      <a:r>
                        <a:rPr b="1" lang="it-IT" sz="14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(avanzato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1" lang="it-IT" sz="1800" spc="-1" strike="noStrike">
                          <a:solidFill>
                            <a:schemeClr val="lt1"/>
                          </a:solidFill>
                          <a:latin typeface="Times New Roman"/>
                          <a:ea typeface="Calibri"/>
                        </a:rPr>
                        <a:t>L’alunno/a svolge compiti e risolve problemi complessi, mostrando padronanza nell’uso delle conoscenze e delle abilità; propone e sostiene le proprie opinioni e assume in modo responsabile decisioni consapevoli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36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B</a:t>
                      </a:r>
                      <a:r>
                        <a:rPr b="0" lang="it-IT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(intermedio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L’alunno/a svolge compiti e risolve problemi in situazioni nuove, compie scelte consapevoli, mostrando di saper utilizzare le conoscenze e le abilità acquisit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36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</a:t>
                      </a:r>
                      <a:r>
                        <a:rPr b="0" lang="it-IT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(bas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L’alunno/a svolge compiti semplici anche in situazioni nuove, mostrando di possedere conoscenze e abilità fondamentali e di saper applicare basilari regole e procedure appres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36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D</a:t>
                      </a:r>
                      <a:r>
                        <a:rPr b="0" lang="it-IT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(inizial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L’alunno/a, se opportunamente guidato/a, svolge compiti semplici in situazioni not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</a:tbl>
          </a:graphicData>
        </a:graphic>
      </p:graphicFrame>
      <p:pic>
        <p:nvPicPr>
          <p:cNvPr id="170" name="Picture 5" descr="logo baobab"/>
          <p:cNvPicPr/>
          <p:nvPr/>
        </p:nvPicPr>
        <p:blipFill>
          <a:blip r:embed="rId1"/>
          <a:stretch/>
        </p:blipFill>
        <p:spPr>
          <a:xfrm>
            <a:off x="179280" y="189000"/>
            <a:ext cx="717120" cy="79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3" descr="logo baobab"/>
          <p:cNvPicPr/>
          <p:nvPr/>
        </p:nvPicPr>
        <p:blipFill>
          <a:blip r:embed="rId1"/>
          <a:stretch/>
        </p:blipFill>
        <p:spPr>
          <a:xfrm>
            <a:off x="0" y="0"/>
            <a:ext cx="914040" cy="101088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95"/>
          <p:cNvSpPr/>
          <p:nvPr/>
        </p:nvSpPr>
        <p:spPr>
          <a:xfrm>
            <a:off x="971640" y="0"/>
            <a:ext cx="7345080" cy="8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Noi de Il Baobab ricorriamo al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it-IT" sz="2800" spc="-1" strike="noStrike">
                <a:solidFill>
                  <a:srgbClr val="ffff00"/>
                </a:solidFill>
                <a:latin typeface="Arial"/>
              </a:rPr>
              <a:t>aree della competenza</a:t>
            </a: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Picture 2" descr="C:\Users\Tiziano_\Documents\Cartella Lavoro\ASSOCIAZIONE\EDITORIA\GIUNTI\FORMAZIONE GIUNTI-CANTINI\INTERVENTO\NEW RADAR.jpg"/>
          <p:cNvPicPr/>
          <p:nvPr/>
        </p:nvPicPr>
        <p:blipFill>
          <a:blip r:embed="rId2"/>
          <a:stretch/>
        </p:blipFill>
        <p:spPr>
          <a:xfrm>
            <a:off x="1475640" y="884160"/>
            <a:ext cx="6064560" cy="59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" dur="20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CasellaDiTesto 5"/>
          <p:cNvSpPr/>
          <p:nvPr/>
        </p:nvSpPr>
        <p:spPr>
          <a:xfrm>
            <a:off x="452520" y="476640"/>
            <a:ext cx="379080" cy="2251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Segnaposto tabella 4"/>
          <p:cNvGraphicFramePr/>
          <p:nvPr/>
        </p:nvGraphicFramePr>
        <p:xfrm>
          <a:off x="821880" y="64080"/>
          <a:ext cx="8229240" cy="6756840"/>
        </p:xfrm>
        <a:graphic>
          <a:graphicData uri="http://schemas.openxmlformats.org/drawingml/2006/table">
            <a:tbl>
              <a:tblPr/>
              <a:tblGrid>
                <a:gridCol w="2664000"/>
                <a:gridCol w="4464360"/>
                <a:gridCol w="1100520"/>
              </a:tblGrid>
              <a:tr h="514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INDICATOR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INDIC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LIVELL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gire in modo autonomo e responsabi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 –  Adotta atteggiamenti adeguati al contest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2 –  Mette in atto strategie per favorire l’apprendiment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3 –  Argomenta in modo coerente scelte e opinion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4 –  Sa assumere e portare a termini ruoli di responsabilit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llaborare e partecip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5 –  Ha spirito di iniziativ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6 –  Sa operare in grupp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cquisire e interpretare informazio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7 –  Sa comprendere testi scritti di vario tip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8 –  Sa argomentare usando tabelle e grafic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dividuare collegamenti e relazio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9 –  Dispone di conoscenze consolidate che sa usare per formulare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potes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0 – Dispone di conoscenze consolidate che sa utilizzare per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terpretare fatti o fenomeni e giustificare risultat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Progettare e risolvere proble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1 – Propone strategie per risolvere problemi (progettazion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2 – Attua procedure operative per risolvere problemi (attuazion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munic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3 – Sa esprimere ciò che ha appreso ricorrendo anche a registr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linguistici diversi in relazione a destinatari different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4 – Sa elaborare, argomentare e comunicare utilizzando strument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formatic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mparare ad impar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5 – Impara autonomamente cose che non gli sono state spiega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4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6 – E’ curioso e desideroso di scoprire i perché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</a:tbl>
          </a:graphicData>
        </a:graphic>
      </p:graphicFrame>
      <p:sp>
        <p:nvSpPr>
          <p:cNvPr id="176" name="CasellaDiTesto 6"/>
          <p:cNvSpPr/>
          <p:nvPr/>
        </p:nvSpPr>
        <p:spPr>
          <a:xfrm>
            <a:off x="452520" y="2997000"/>
            <a:ext cx="379080" cy="2069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CasellaDiTesto 7"/>
          <p:cNvSpPr/>
          <p:nvPr/>
        </p:nvSpPr>
        <p:spPr>
          <a:xfrm>
            <a:off x="469440" y="5157360"/>
            <a:ext cx="362160" cy="1460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CasellaDiTesto 1"/>
          <p:cNvSpPr/>
          <p:nvPr/>
        </p:nvSpPr>
        <p:spPr>
          <a:xfrm>
            <a:off x="12600" y="4680"/>
            <a:ext cx="359280" cy="6825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2" descr="C:\Users\Tiziano_\Documents\Cartella Lavoro\ASSOCIAZIONE\EDITORIA\GIUNTI\FORMAZIONE GIUNTI-CANTINI\INTERVENTO\NEW RADAR.jpg"/>
          <p:cNvPicPr/>
          <p:nvPr/>
        </p:nvPicPr>
        <p:blipFill>
          <a:blip r:embed="rId1"/>
          <a:stretch/>
        </p:blipFill>
        <p:spPr>
          <a:xfrm>
            <a:off x="3518280" y="573120"/>
            <a:ext cx="5544360" cy="5391360"/>
          </a:xfrm>
          <a:prstGeom prst="rect">
            <a:avLst/>
          </a:prstGeom>
          <a:ln w="0">
            <a:noFill/>
          </a:ln>
        </p:spPr>
      </p:pic>
      <p:sp>
        <p:nvSpPr>
          <p:cNvPr id="180" name="CasellaDiTesto 10"/>
          <p:cNvSpPr/>
          <p:nvPr/>
        </p:nvSpPr>
        <p:spPr>
          <a:xfrm>
            <a:off x="835560" y="573120"/>
            <a:ext cx="2656080" cy="5879520"/>
          </a:xfrm>
          <a:prstGeom prst="rect">
            <a:avLst/>
          </a:prstGeom>
          <a:solidFill>
            <a:schemeClr val="bg1">
              <a:lumMod val="40000"/>
              <a:lumOff val="6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SzPct val="100000"/>
              <a:buBlip>
                <a:blip r:embed="rId2"/>
              </a:buBlip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Gli </a:t>
            </a:r>
            <a:r>
              <a:rPr b="1" lang="it-IT" sz="2400" spc="-1" strike="noStrike">
                <a:solidFill>
                  <a:srgbClr val="ffff00"/>
                </a:solidFill>
                <a:latin typeface="Arial"/>
              </a:rPr>
              <a:t>Indicatori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sono dispost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in cerchio a delimita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settori e spicch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SzPct val="100000"/>
              <a:buBlip>
                <a:blip r:embed="rId3"/>
              </a:buBlip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I livelli individu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ti per ciascun </a:t>
            </a:r>
            <a:r>
              <a:rPr b="1" lang="it-IT" sz="2400" spc="-1" strike="noStrike">
                <a:solidFill>
                  <a:srgbClr val="ffff00"/>
                </a:solidFill>
                <a:latin typeface="Arial"/>
              </a:rPr>
              <a:t>indice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consentono d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delimitare un’are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di competen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reccia circolare a sinistra 12"/>
          <p:cNvSpPr/>
          <p:nvPr/>
        </p:nvSpPr>
        <p:spPr>
          <a:xfrm rot="19525800">
            <a:off x="3695760" y="63360"/>
            <a:ext cx="1199880" cy="2614320"/>
          </a:xfrm>
          <a:prstGeom prst="curvedLeftArrow">
            <a:avLst>
              <a:gd name="adj1" fmla="val 25000"/>
              <a:gd name="adj2" fmla="val 50000"/>
              <a:gd name="adj3" fmla="val 32055"/>
            </a:avLst>
          </a:prstGeom>
          <a:solidFill>
            <a:schemeClr val="accent1"/>
          </a:solidFill>
          <a:ln w="9525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2" descr="C:\Users\Tiziano_\Documents\Cartella Lavoro\ASSOCIAZIONE\EDITORIA\GIUNTI\FORMAZIONE GIUNTI-CANTINI\INTERVENTO\img142.jpg"/>
          <p:cNvPicPr/>
          <p:nvPr/>
        </p:nvPicPr>
        <p:blipFill>
          <a:blip r:embed="rId4"/>
          <a:stretch/>
        </p:blipFill>
        <p:spPr>
          <a:xfrm>
            <a:off x="3492000" y="573120"/>
            <a:ext cx="5651640" cy="5530320"/>
          </a:xfrm>
          <a:prstGeom prst="rect">
            <a:avLst/>
          </a:prstGeom>
          <a:ln w="0">
            <a:noFill/>
          </a:ln>
        </p:spPr>
      </p:pic>
      <p:sp>
        <p:nvSpPr>
          <p:cNvPr id="183" name="Freccia circolare in su 13"/>
          <p:cNvSpPr/>
          <p:nvPr/>
        </p:nvSpPr>
        <p:spPr>
          <a:xfrm rot="20116200">
            <a:off x="3185280" y="4957920"/>
            <a:ext cx="4150800" cy="1510200"/>
          </a:xfrm>
          <a:prstGeom prst="curvedUpArrow">
            <a:avLst>
              <a:gd name="adj1" fmla="val 25000"/>
              <a:gd name="adj2" fmla="val 50000"/>
              <a:gd name="adj3" fmla="val 25000"/>
            </a:avLst>
          </a:prstGeom>
          <a:solidFill>
            <a:schemeClr val="accent1"/>
          </a:solidFill>
          <a:ln w="9525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Picture 5" descr="logo baobab"/>
          <p:cNvPicPr/>
          <p:nvPr/>
        </p:nvPicPr>
        <p:blipFill>
          <a:blip r:embed="rId5"/>
          <a:stretch/>
        </p:blipFill>
        <p:spPr>
          <a:xfrm>
            <a:off x="-1800" y="0"/>
            <a:ext cx="518760" cy="57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" dur="3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8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3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5" name="Segnaposto tabella 4"/>
          <p:cNvGraphicFramePr/>
          <p:nvPr/>
        </p:nvGraphicFramePr>
        <p:xfrm>
          <a:off x="821880" y="64080"/>
          <a:ext cx="8229240" cy="6638040"/>
        </p:xfrm>
        <a:graphic>
          <a:graphicData uri="http://schemas.openxmlformats.org/drawingml/2006/table">
            <a:tbl>
              <a:tblPr/>
              <a:tblGrid>
                <a:gridCol w="2664000"/>
                <a:gridCol w="4464360"/>
                <a:gridCol w="1100520"/>
              </a:tblGrid>
              <a:tr h="514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INDICATOR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INDIC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LIVELL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gire in modo autonomo e responsabi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dotto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tteggiamenti adeguati al contest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2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Mett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in atto strategie per favorire l’apprendiment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3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rgoment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in modo coerente scelte e opinion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4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 assumere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e portare a termini ruoli di responsabilit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llaborare e partecip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5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H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spirito di iniziativ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6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 operare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 grupp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cquisire e interpretare informazio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7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 comprendere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testi scritti di vario tip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8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 argomentare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usando tabelle e grafic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dividuare collegamenti e relazio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9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ispongo di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noscenze consolidate che so usare per formulare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potes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0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ispongo di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noscenze consolidate che so utilizzare per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terpretare fatti o fenomeni e giustificare risultat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Progettare e risolvere proble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1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ropong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strategie per risolvere problemi (progettazion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2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ttu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procedure operative per risolvere problemi (attuazion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munic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3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 esprimere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iò che ha appreso ricorrendo anche a registr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linguistici diversi in relazione a destinatari different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4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 elaborare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, argomentare e comunicare utilizzando strument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formatic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mparare ad impar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5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mpar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autonomamente cose che non mi sono state spiega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4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6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n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curioso e desideroso di scoprire i perché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</a:tbl>
          </a:graphicData>
        </a:graphic>
      </p:graphicFrame>
      <p:sp>
        <p:nvSpPr>
          <p:cNvPr id="186" name="CasellaDiTesto 5"/>
          <p:cNvSpPr/>
          <p:nvPr/>
        </p:nvSpPr>
        <p:spPr>
          <a:xfrm>
            <a:off x="467640" y="588600"/>
            <a:ext cx="379080" cy="2251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CasellaDiTesto 6"/>
          <p:cNvSpPr/>
          <p:nvPr/>
        </p:nvSpPr>
        <p:spPr>
          <a:xfrm>
            <a:off x="452520" y="2997000"/>
            <a:ext cx="379080" cy="2069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CasellaDiTesto 7"/>
          <p:cNvSpPr/>
          <p:nvPr/>
        </p:nvSpPr>
        <p:spPr>
          <a:xfrm>
            <a:off x="469440" y="5301360"/>
            <a:ext cx="362160" cy="1460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CasellaDiTesto 1"/>
          <p:cNvSpPr/>
          <p:nvPr/>
        </p:nvSpPr>
        <p:spPr>
          <a:xfrm>
            <a:off x="18360" y="-4320"/>
            <a:ext cx="359280" cy="6947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5" descr="logo baobab"/>
          <p:cNvPicPr/>
          <p:nvPr/>
        </p:nvPicPr>
        <p:blipFill>
          <a:blip r:embed="rId1"/>
          <a:stretch/>
        </p:blipFill>
        <p:spPr>
          <a:xfrm>
            <a:off x="-1800" y="0"/>
            <a:ext cx="518760" cy="57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5" dur="3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1" name="Segnaposto tabella 4"/>
          <p:cNvGraphicFramePr/>
          <p:nvPr/>
        </p:nvGraphicFramePr>
        <p:xfrm>
          <a:off x="831960" y="2880"/>
          <a:ext cx="8219520" cy="6793560"/>
        </p:xfrm>
        <a:graphic>
          <a:graphicData uri="http://schemas.openxmlformats.org/drawingml/2006/table">
            <a:tbl>
              <a:tblPr/>
              <a:tblGrid>
                <a:gridCol w="2660760"/>
                <a:gridCol w="4458960"/>
                <a:gridCol w="1099440"/>
              </a:tblGrid>
              <a:tr h="500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INDICATOR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INDIC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LIVELL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444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gire in modo autonomo e responsabi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 –  So cosa fare e come stare in classe, nel gruppo, con i compagni ,…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.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 –  Cerco di trovare dei modi per imparare più facilmente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 –  So dire il perché delle mie idee e delle mie scelte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 –  So assumere un un incarico o un compito e fare tutto ciò che serve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llaborare e partecip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 –  So organizzarmi anche da solo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 –  So collaborare con i miei compagni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415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cquisire e interpretare informazio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7 –  Sono capace di cercare informazioni sui libri, sui giornali, in rete 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</a:t>
                      </a: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o chiedendo agli altri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415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8 –  So usare tabelle e grafici per capire… e per spiegare quello che ho 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</a:t>
                      </a: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apito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dividuare collegamenti e relazio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9 – Sono capace di  fare delle ipotesi per spiegare fatti o fenomeni 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415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 – Uso tutto quello che so per spiegare le cose che avvengono e i 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risultati delle mie azioni (nello spazio e nel tempo)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Progettare e risolvere proble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1 – Propongo dei modi per risolvere problemi (progettazione)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2 – So come fare per provare a risolvere problemi (attuazione)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578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munic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3 – So raccontare ad altri quello che m’interessa, ma in modi diversi 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descrivo i fatti, li spiego con disegni, cartelloni, mappe, favole, 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iccole recite) a seconda di chi mi ascolta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415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4 – So raccontare e spiegare anche usando il computer e/o la LIM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mparare ad impar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5 –Imparo da solo delle cose che non mi sono state spiegate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4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6 – Sono curioso e voglio scoprire i perché delle cose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</a:tbl>
          </a:graphicData>
        </a:graphic>
      </p:graphicFrame>
      <p:sp>
        <p:nvSpPr>
          <p:cNvPr id="192" name="CasellaDiTesto 5"/>
          <p:cNvSpPr/>
          <p:nvPr/>
        </p:nvSpPr>
        <p:spPr>
          <a:xfrm>
            <a:off x="443880" y="543240"/>
            <a:ext cx="387720" cy="2251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asellaDiTesto 6"/>
          <p:cNvSpPr/>
          <p:nvPr/>
        </p:nvSpPr>
        <p:spPr>
          <a:xfrm>
            <a:off x="452520" y="2997000"/>
            <a:ext cx="379080" cy="2069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CasellaDiTesto 7"/>
          <p:cNvSpPr/>
          <p:nvPr/>
        </p:nvSpPr>
        <p:spPr>
          <a:xfrm>
            <a:off x="443880" y="5301360"/>
            <a:ext cx="387720" cy="1460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CasellaDiTesto 1"/>
          <p:cNvSpPr/>
          <p:nvPr/>
        </p:nvSpPr>
        <p:spPr>
          <a:xfrm>
            <a:off x="0" y="0"/>
            <a:ext cx="452160" cy="7254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5" descr="logo baobab"/>
          <p:cNvPicPr/>
          <p:nvPr/>
        </p:nvPicPr>
        <p:blipFill>
          <a:blip r:embed="rId1"/>
          <a:stretch/>
        </p:blipFill>
        <p:spPr>
          <a:xfrm>
            <a:off x="-1800" y="0"/>
            <a:ext cx="518760" cy="57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6" dur="3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4_Beam">
  <a:themeElements>
    <a:clrScheme name="Beam 2">
      <a:dk1>
        <a:srgbClr val="000080"/>
      </a:dk1>
      <a:lt1>
        <a:srgbClr val="ffffff"/>
      </a:lt1>
      <a:dk2>
        <a:srgbClr val="000099"/>
      </a:dk2>
      <a:lt2>
        <a:srgbClr val="ffffff"/>
      </a:lt2>
      <a:accent1>
        <a:srgbClr val="3366ff"/>
      </a:accent1>
      <a:accent2>
        <a:srgbClr val="7b46d0"/>
      </a:accent2>
      <a:accent3>
        <a:srgbClr val="aaaaca"/>
      </a:accent3>
      <a:accent4>
        <a:srgbClr val="dadada"/>
      </a:accent4>
      <a:accent5>
        <a:srgbClr val="adb8ff"/>
      </a:accent5>
      <a:accent6>
        <a:srgbClr val="6f3fbc"/>
      </a:accent6>
      <a:hlink>
        <a:srgbClr val="86d1ec"/>
      </a:hlink>
      <a:folHlink>
        <a:srgbClr val="45c98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8_Beam">
  <a:themeElements>
    <a:clrScheme name="Beam 2">
      <a:dk1>
        <a:srgbClr val="000080"/>
      </a:dk1>
      <a:lt1>
        <a:srgbClr val="ffffff"/>
      </a:lt1>
      <a:dk2>
        <a:srgbClr val="000099"/>
      </a:dk2>
      <a:lt2>
        <a:srgbClr val="ffffff"/>
      </a:lt2>
      <a:accent1>
        <a:srgbClr val="3366ff"/>
      </a:accent1>
      <a:accent2>
        <a:srgbClr val="7b46d0"/>
      </a:accent2>
      <a:accent3>
        <a:srgbClr val="aaaaca"/>
      </a:accent3>
      <a:accent4>
        <a:srgbClr val="dadada"/>
      </a:accent4>
      <a:accent5>
        <a:srgbClr val="adb8ff"/>
      </a:accent5>
      <a:accent6>
        <a:srgbClr val="6f3fbc"/>
      </a:accent6>
      <a:hlink>
        <a:srgbClr val="86d1ec"/>
      </a:hlink>
      <a:folHlink>
        <a:srgbClr val="45c98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00099"/>
      </a:dk2>
      <a:lt2>
        <a:srgbClr val="ffffff"/>
      </a:lt2>
      <a:accent1>
        <a:srgbClr val="3366ff"/>
      </a:accent1>
      <a:accent2>
        <a:srgbClr val="7b46d0"/>
      </a:accent2>
      <a:accent3>
        <a:srgbClr val="aaaaca"/>
      </a:accent3>
      <a:accent4>
        <a:srgbClr val="dadada"/>
      </a:accent4>
      <a:accent5>
        <a:srgbClr val="adb8ff"/>
      </a:accent5>
      <a:accent6>
        <a:srgbClr val="6f3fbc"/>
      </a:accent6>
      <a:hlink>
        <a:srgbClr val="86d1ec"/>
      </a:hlink>
      <a:folHlink>
        <a:srgbClr val="45c98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83</TotalTime>
  <Application>LibreOffice/7.4.7.2$Linux_X86_64 LibreOffice_project/40$Build-2</Application>
  <AppVersion>15.0000</AppVersion>
  <Words>1016</Words>
  <Paragraphs>34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1T16:46:28Z</dcterms:created>
  <dc:creator>Daniele</dc:creator>
  <dc:description/>
  <dc:language>en-US</dc:language>
  <cp:lastModifiedBy>ANDREA</cp:lastModifiedBy>
  <cp:lastPrinted>1601-01-01T00:00:00Z</cp:lastPrinted>
  <dcterms:modified xsi:type="dcterms:W3CDTF">2015-04-15T13:23:22Z</dcterms:modified>
  <cp:revision>301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5</vt:r8>
  </property>
  <property fmtid="{D5CDD505-2E9C-101B-9397-08002B2CF9AE}" pid="3" name="PresentationFormat">
    <vt:lpwstr>Presentazione su schermo (4:3)</vt:lpwstr>
  </property>
  <property fmtid="{D5CDD505-2E9C-101B-9397-08002B2CF9AE}" pid="4" name="Slides">
    <vt:r8>5</vt:r8>
  </property>
  <property fmtid="{D5CDD505-2E9C-101B-9397-08002B2CF9AE}" pid="5" name="Version">
    <vt:r8>7</vt:r8>
  </property>
</Properties>
</file>